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33CF-9653-4541-A33B-057928D7A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31DA-43BA-4A3A-B018-601FED905D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1F0F-6040-4ADF-A179-D5D2F638D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BD84-0D93-4630-A967-946544A3C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D52C-5D9A-4EC4-90A7-49F8B5100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04BB-498D-4423-BBF2-11959B8403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0F01-BE40-4C25-91CB-1CFE6F7AA4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678-9E8D-4864-A862-3077564EC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027A-9678-4936-BF2D-3E3B90844C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F59B9-7461-4CEF-AA95-569928728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4F12-E201-4DB5-ACBC-3736A5D6D1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EBC-F7D8-4821-8587-6077860F3A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32D8-A38A-4F8A-B8C3-531DBF43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3B5-AA9C-4DDF-9A96-8A2D5438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31E0-159C-4DE4-AC83-B2B57FA1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9C98-7AC2-4533-A54B-4054334D3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EF8B-2530-45E3-BD50-F811C1B6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79C8-5507-4753-86CB-89ABDA700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BCA7-9E0F-49D7-8FD6-BE6B6FA8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4B53-D96A-4DF7-8A99-8703E4CF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AF9F-EE36-4658-8F63-9F10459F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5D01-EAAB-4DB3-A16F-0740D854F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AE4E-A39C-4BE0-BE04-F503DF6D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C11E-A48A-4BDF-99C1-70334D6F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18CD-466D-4A92-938B-BB490D24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C69C-EE85-4189-AEDE-0C7B5812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67C8-5E26-4CBF-9255-C22F71B6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66AE-222E-4C8D-856D-B55B294E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7736-4C04-488E-9279-C4D94954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9A6FF-D8C9-4BDE-933F-46638374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CE682-3F85-40B2-AD0A-E200A8EF0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F317B-2070-4A1C-BC73-E6461666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F4400-E912-4D6C-9CB2-2C31779D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5DC325-EA2D-4EE7-AA7F-0B52581D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8EE-AC4B-42BE-AAA6-8271C1E2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A33230-50A9-4437-9160-E6DCC2CF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DD533-C864-47F6-9C52-B326362E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74AEF-54EB-4829-AAF8-5B81A672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E7338-C805-4777-841B-B73B9114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C457D-53C5-40D2-BFE6-EFC97291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1E9832-B9A5-4B72-AD24-42EC8D35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F64CC-06E5-427F-8BD3-0FD619F9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8E535-03D1-4107-90B6-9149F8A4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90982-CCA5-48A7-ADB6-ED5D64A0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2477B-0E7E-46C5-BA69-6858A0BC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121A-3E9E-4910-9C47-DDA28412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621CE-3AD8-439B-B1F9-08CCB66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BC983-A181-46E2-86C4-C87613C75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DED35-D65F-431D-A159-E25928F4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F309D-621A-40C6-A065-3971EB7C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2C9EB-A7B3-46F0-8B32-C8C3A586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23D86-3882-4EBD-B9AF-E86F5D20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8123-2936-4228-A210-07993470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1D52-26C1-4489-B909-F6A7CA15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F048B-B79B-4292-89F3-14DD5800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2FF37-91B9-4A2A-A532-4D9D6F88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BCA-96FB-4656-B3D3-5250D203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39650-0179-42A9-A312-0748BCBF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FA1A13-9977-48CD-A140-14CECA96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E79634-BB4B-4D4D-B4E5-341E0877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B8EA6-0A71-46BD-BAB9-4EFCC00D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3AD62F-5355-42D8-929B-17B0708A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B327A-D2D7-4C31-B7A1-81A1B59F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750A6-979E-48C6-94CF-4D88A2E0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E4555-BAB7-4F7D-8684-05B49299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F4B041-58EF-4F3A-9CB6-6949D61C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C6EF8A-917D-477C-A7E1-589DA509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536-DF5C-4E0B-B4A4-55943C7B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E0EE47-8991-4609-9D60-2E989707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C9BD06-5902-4D99-8C50-55C9C565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E464E-5C01-4E97-82A7-A3758A11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FD3237-3DF1-46A9-B33A-18663BBB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BBFF1-30D2-4A21-9623-EFD2C972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492F64-F73F-48E5-B070-04FDD19F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141F82-F609-4C16-B5E1-15F5722C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6B88F8-A3C0-4982-88DD-08CE2A58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8C4392-6B6A-4098-A42D-F2EB503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CC2D58-AEE2-4A02-A83F-9E377344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FCF0-71E6-42A1-BB08-EAD0F7DE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305088-04A4-41E2-96F5-79714673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0B809-389E-4844-964B-042DDE95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914AF4-21C6-4DB7-81CB-F3602924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9344E5-9EF8-4D75-B543-005D6946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0E2AEB-15DC-49E9-BFA8-882EB733F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74C7E6-C2D0-48D3-8882-1E210C50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06BA50-04EC-46AE-B6CD-30E90844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99B60E-15F6-4893-9075-339F8329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FEB3D-2EDC-4D88-B139-C5442B28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7BD53E-990A-46BC-AA6B-4A9028D9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BF3-4984-4ABA-92CF-0B4DCC17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E0C6F7-42A4-4A3D-A6E1-446B4FB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C6D3F7-87DC-4B3A-AA26-A86D7124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A5B1D-E1E0-44D2-95E1-9A72876D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0DAFD-DE55-471D-9427-9DBFB8869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5DB8F0-F2DE-48C0-B1B6-B7C3DB1F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CA3-848C-4B74-832B-64E5A75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E02E-4B8C-41D0-8645-3ABD8176E16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BA2A-E32B-4198-B0BB-4877A13D08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BAE0-70B6-41E5-95DE-9D62820C721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69FA-5C08-491F-B67D-632086F378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445B-293C-47D7-A084-9B5AE2DD360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839F-A3A6-4E23-95C0-12AC0296564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B8A-8659-43F4-8548-D3BE3D2BC5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SRS VECTOR RECONSTRUCTION USING COMPASS-STYLE XY STRIP READOU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B.Azmoun, C.Woody, M.Pursch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BN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ILL TO DO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609480" y="396252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rrect for time slewing effect from fitting rising edge of pulse, ie two pulses of differing amplitude, arriving at the same time will produce slightly different xint values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stablish method to determine hardware delay needed to     calculate the drift time from xint, using dat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oduce vector in y-z plane, then reconstruct image in 2D (3D?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ave some ideas for performing stronger cuts, better results?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8" name="Title 1"/>
          <p:cNvSpPr/>
          <p:nvPr/>
        </p:nvSpPr>
        <p:spPr>
          <a:xfrm>
            <a:off x="457200" y="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GENERAL OBSERVATIONS…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609480" y="1219320"/>
            <a:ext cx="67820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reconstructed source position distr. is narrower than the centroid distribution, as expect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vector x-int distr. is broader than the centroid distr. as expect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Just produced the angular distr., so there may be a bug here…although the overwhelming majority of the tracks are vertical, those at an angle have a larger angle than expecte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till must optimize several parameter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3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2244600" cy="152892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2"/>
          <a:stretch/>
        </p:blipFill>
        <p:spPr>
          <a:xfrm>
            <a:off x="609480" y="4191120"/>
            <a:ext cx="3314880" cy="22572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5" descr=""/>
          <p:cNvPicPr/>
          <p:nvPr/>
        </p:nvPicPr>
        <p:blipFill>
          <a:blip r:embed="rId3"/>
          <a:stretch/>
        </p:blipFill>
        <p:spPr>
          <a:xfrm>
            <a:off x="457200" y="762120"/>
            <a:ext cx="3314880" cy="22572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RECONSTRUCTED SOURCE X-POSITION –</a:t>
            </a:r>
            <a:br>
              <a:rPr sz="2700"/>
            </a:b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NO VERTICALTRACK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Left Brace 9"/>
          <p:cNvSpPr/>
          <p:nvPr/>
        </p:nvSpPr>
        <p:spPr>
          <a:xfrm rot="5400000">
            <a:off x="4285800" y="2511360"/>
            <a:ext cx="343080" cy="685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Left Brace 11"/>
          <p:cNvSpPr/>
          <p:nvPr/>
        </p:nvSpPr>
        <p:spPr>
          <a:xfrm rot="16200000">
            <a:off x="4332240" y="4092480"/>
            <a:ext cx="342720" cy="685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96" name="Straight Arrow Connector 14"/>
          <p:cNvCxnSpPr>
            <a:stCxn id="492" idx="3"/>
          </p:cNvCxnSpPr>
          <p:nvPr/>
        </p:nvCxnSpPr>
        <p:spPr>
          <a:xfrm>
            <a:off x="3771720" y="1890720"/>
            <a:ext cx="648360" cy="77688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97" name="Straight Arrow Connector 16"/>
          <p:cNvCxnSpPr>
            <a:stCxn id="491" idx="3"/>
          </p:cNvCxnSpPr>
          <p:nvPr/>
        </p:nvCxnSpPr>
        <p:spPr>
          <a:xfrm flipV="1">
            <a:off x="3924000" y="4647600"/>
            <a:ext cx="572040" cy="6721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98" name="Picture 2" descr=""/>
          <p:cNvPicPr/>
          <p:nvPr/>
        </p:nvPicPr>
        <p:blipFill>
          <a:blip r:embed="rId4"/>
          <a:stretch/>
        </p:blipFill>
        <p:spPr>
          <a:xfrm>
            <a:off x="5334120" y="4267080"/>
            <a:ext cx="331452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496040" cy="337176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ETUP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2514600" y="228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ouble Ended Scintillation Trigger / Vet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Box 3"/>
          <p:cNvSpPr/>
          <p:nvPr/>
        </p:nvSpPr>
        <p:spPr>
          <a:xfrm>
            <a:off x="7086600" y="1219320"/>
            <a:ext cx="1600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ollimated Sr-90 sourc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(2” x 1mm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TextBox 4"/>
          <p:cNvSpPr/>
          <p:nvPr/>
        </p:nvSpPr>
        <p:spPr>
          <a:xfrm>
            <a:off x="7238880" y="2133720"/>
            <a:ext cx="137160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PV25 Chip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</a:rPr>
              <a:t>(SRS System)</a:t>
            </a:r>
            <a:endParaRPr b="0" lang="en-US" sz="11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65" name="Group 5"/>
          <p:cNvGrpSpPr/>
          <p:nvPr/>
        </p:nvGrpSpPr>
        <p:grpSpPr>
          <a:xfrm>
            <a:off x="1025640" y="4037400"/>
            <a:ext cx="4644000" cy="2642760"/>
            <a:chOff x="1025640" y="4037400"/>
            <a:chExt cx="4644000" cy="2642760"/>
          </a:xfrm>
        </p:grpSpPr>
        <p:sp>
          <p:nvSpPr>
            <p:cNvPr id="366" name="Straight Connector 6"/>
            <p:cNvSpPr/>
            <p:nvPr/>
          </p:nvSpPr>
          <p:spPr>
            <a:xfrm>
              <a:off x="1744920" y="4800600"/>
              <a:ext cx="19054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7" name="Straight Connector 7"/>
            <p:cNvSpPr/>
            <p:nvPr/>
          </p:nvSpPr>
          <p:spPr>
            <a:xfrm>
              <a:off x="1813320" y="5486400"/>
              <a:ext cx="1737720" cy="0"/>
            </a:xfrm>
            <a:prstGeom prst="line">
              <a:avLst/>
            </a:prstGeom>
            <a:ln cap="rnd" w="38160">
              <a:solidFill>
                <a:srgbClr val="595d63"/>
              </a:solidFill>
              <a:custDash>
                <a:ds d="499000" sp="20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8" name="Straight Connector 8"/>
            <p:cNvSpPr/>
            <p:nvPr/>
          </p:nvSpPr>
          <p:spPr>
            <a:xfrm>
              <a:off x="1813320" y="5639040"/>
              <a:ext cx="1737720" cy="0"/>
            </a:xfrm>
            <a:prstGeom prst="line">
              <a:avLst/>
            </a:prstGeom>
            <a:ln cap="rnd" w="38160">
              <a:solidFill>
                <a:srgbClr val="595d63"/>
              </a:solidFill>
              <a:custDash>
                <a:ds d="499000" sp="20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69" name="Straight Connector 9"/>
            <p:cNvSpPr/>
            <p:nvPr/>
          </p:nvSpPr>
          <p:spPr>
            <a:xfrm>
              <a:off x="1813320" y="5791320"/>
              <a:ext cx="1737720" cy="0"/>
            </a:xfrm>
            <a:prstGeom prst="line">
              <a:avLst/>
            </a:prstGeom>
            <a:ln cap="rnd" w="38160">
              <a:solidFill>
                <a:srgbClr val="595d63"/>
              </a:solidFill>
              <a:custDash>
                <a:ds d="499000" sp="201000"/>
              </a:custDash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0" name="Straight Connector 10"/>
            <p:cNvSpPr/>
            <p:nvPr/>
          </p:nvSpPr>
          <p:spPr>
            <a:xfrm>
              <a:off x="1905120" y="6013440"/>
              <a:ext cx="1646280" cy="0"/>
            </a:xfrm>
            <a:prstGeom prst="line">
              <a:avLst/>
            </a:prstGeom>
            <a:ln w="38160">
              <a:solidFill>
                <a:srgbClr val="0070c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1" name="Straight Connector 11"/>
            <p:cNvSpPr/>
            <p:nvPr/>
          </p:nvSpPr>
          <p:spPr>
            <a:xfrm>
              <a:off x="1748880" y="6037200"/>
              <a:ext cx="1905480" cy="0"/>
            </a:xfrm>
            <a:prstGeom prst="line">
              <a:avLst/>
            </a:prstGeom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372" name="Straight Arrow Connector 12"/>
            <p:cNvCxnSpPr/>
            <p:nvPr/>
          </p:nvCxnSpPr>
          <p:spPr>
            <a:xfrm flipH="1">
              <a:off x="1554120" y="4037400"/>
              <a:ext cx="2592000" cy="2363400"/>
            </a:xfrm>
            <a:prstGeom prst="straightConnector1">
              <a:avLst/>
            </a:prstGeom>
            <a:ln w="19080">
              <a:solidFill>
                <a:srgbClr val="ff6903"/>
              </a:solidFill>
              <a:prstDash val="dash"/>
              <a:miter/>
              <a:tailEnd len="lg" type="stealth" w="lg"/>
            </a:ln>
          </p:spPr>
        </p:cxnSp>
        <p:cxnSp>
          <p:nvCxnSpPr>
            <p:cNvPr id="373" name="Straight Arrow Connector 13"/>
            <p:cNvCxnSpPr/>
            <p:nvPr/>
          </p:nvCxnSpPr>
          <p:spPr>
            <a:xfrm flipH="1">
              <a:off x="2819160" y="525168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374" name="Straight Arrow Connector 14"/>
            <p:cNvCxnSpPr/>
            <p:nvPr/>
          </p:nvCxnSpPr>
          <p:spPr>
            <a:xfrm flipH="1">
              <a:off x="2971800" y="509868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375" name="Straight Arrow Connector 15"/>
            <p:cNvCxnSpPr/>
            <p:nvPr/>
          </p:nvCxnSpPr>
          <p:spPr>
            <a:xfrm flipH="1">
              <a:off x="3124080" y="502272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cxnSp>
          <p:nvCxnSpPr>
            <p:cNvPr id="376" name="Straight Arrow Connector 16"/>
            <p:cNvCxnSpPr/>
            <p:nvPr/>
          </p:nvCxnSpPr>
          <p:spPr>
            <a:xfrm flipH="1">
              <a:off x="3267000" y="4851360"/>
              <a:ext cx="144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triangle" w="med"/>
            </a:ln>
          </p:spPr>
        </p:cxnSp>
        <p:sp>
          <p:nvSpPr>
            <p:cNvPr id="377" name="Freeform 17"/>
            <p:cNvSpPr/>
            <p:nvPr/>
          </p:nvSpPr>
          <p:spPr>
            <a:xfrm>
              <a:off x="2828520" y="5499000"/>
              <a:ext cx="133560" cy="479160"/>
            </a:xfrm>
            <a:custGeom>
              <a:avLst/>
              <a:gdLst/>
              <a:ahLst/>
              <a:rect l="l" t="t" r="r" b="b"/>
              <a:pathLst>
                <a:path w="133791" h="479262">
                  <a:moveTo>
                    <a:pt x="29016" y="0"/>
                  </a:moveTo>
                  <a:cubicBezTo>
                    <a:pt x="0" y="87047"/>
                    <a:pt x="14106" y="31742"/>
                    <a:pt x="38541" y="219075"/>
                  </a:cubicBezTo>
                  <a:cubicBezTo>
                    <a:pt x="39840" y="229031"/>
                    <a:pt x="43576" y="238670"/>
                    <a:pt x="48066" y="247650"/>
                  </a:cubicBezTo>
                  <a:cubicBezTo>
                    <a:pt x="53186" y="257889"/>
                    <a:pt x="60766" y="266700"/>
                    <a:pt x="67116" y="276225"/>
                  </a:cubicBezTo>
                  <a:cubicBezTo>
                    <a:pt x="73466" y="298450"/>
                    <a:pt x="79368" y="320808"/>
                    <a:pt x="86166" y="342900"/>
                  </a:cubicBezTo>
                  <a:cubicBezTo>
                    <a:pt x="92071" y="362092"/>
                    <a:pt x="101278" y="380359"/>
                    <a:pt x="105216" y="400050"/>
                  </a:cubicBezTo>
                  <a:cubicBezTo>
                    <a:pt x="108391" y="415925"/>
                    <a:pt x="110814" y="431969"/>
                    <a:pt x="114741" y="447675"/>
                  </a:cubicBezTo>
                  <a:cubicBezTo>
                    <a:pt x="122638" y="479262"/>
                    <a:pt x="115058" y="476250"/>
                    <a:pt x="133791" y="47625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8" name="Freeform 18"/>
            <p:cNvSpPr/>
            <p:nvPr/>
          </p:nvSpPr>
          <p:spPr>
            <a:xfrm>
              <a:off x="2822760" y="5459040"/>
              <a:ext cx="91800" cy="563760"/>
            </a:xfrm>
            <a:custGeom>
              <a:avLst/>
              <a:gdLst/>
              <a:ahLst/>
              <a:rect l="l" t="t" r="r" b="b"/>
              <a:pathLst>
                <a:path w="91935" h="563623">
                  <a:moveTo>
                    <a:pt x="6210" y="20698"/>
                  </a:moveTo>
                  <a:cubicBezTo>
                    <a:pt x="28164" y="108515"/>
                    <a:pt x="0" y="0"/>
                    <a:pt x="34785" y="115948"/>
                  </a:cubicBezTo>
                  <a:cubicBezTo>
                    <a:pt x="38547" y="128487"/>
                    <a:pt x="40170" y="141629"/>
                    <a:pt x="44310" y="154048"/>
                  </a:cubicBezTo>
                  <a:cubicBezTo>
                    <a:pt x="49717" y="170268"/>
                    <a:pt x="57517" y="185605"/>
                    <a:pt x="63360" y="201673"/>
                  </a:cubicBezTo>
                  <a:cubicBezTo>
                    <a:pt x="81912" y="252690"/>
                    <a:pt x="80563" y="251436"/>
                    <a:pt x="91935" y="296923"/>
                  </a:cubicBezTo>
                  <a:cubicBezTo>
                    <a:pt x="85585" y="315973"/>
                    <a:pt x="84024" y="337365"/>
                    <a:pt x="72885" y="354073"/>
                  </a:cubicBezTo>
                  <a:lnTo>
                    <a:pt x="34785" y="411223"/>
                  </a:lnTo>
                  <a:cubicBezTo>
                    <a:pt x="9575" y="512065"/>
                    <a:pt x="15735" y="461241"/>
                    <a:pt x="15735" y="563623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79" name="Freeform 19"/>
            <p:cNvSpPr/>
            <p:nvPr/>
          </p:nvSpPr>
          <p:spPr>
            <a:xfrm>
              <a:off x="2781360" y="5470200"/>
              <a:ext cx="48600" cy="566640"/>
            </a:xfrm>
            <a:custGeom>
              <a:avLst/>
              <a:gdLst/>
              <a:ahLst/>
              <a:rect l="l" t="t" r="r" b="b"/>
              <a:pathLst>
                <a:path w="48734" h="566649">
                  <a:moveTo>
                    <a:pt x="28575" y="0"/>
                  </a:moveTo>
                  <a:cubicBezTo>
                    <a:pt x="31750" y="95250"/>
                    <a:pt x="32335" y="190622"/>
                    <a:pt x="38100" y="285750"/>
                  </a:cubicBezTo>
                  <a:cubicBezTo>
                    <a:pt x="38707" y="295772"/>
                    <a:pt x="48734" y="304346"/>
                    <a:pt x="47625" y="314325"/>
                  </a:cubicBezTo>
                  <a:cubicBezTo>
                    <a:pt x="45407" y="334283"/>
                    <a:pt x="34092" y="352167"/>
                    <a:pt x="28575" y="371475"/>
                  </a:cubicBezTo>
                  <a:cubicBezTo>
                    <a:pt x="13257" y="425087"/>
                    <a:pt x="9924" y="445681"/>
                    <a:pt x="0" y="495300"/>
                  </a:cubicBezTo>
                  <a:cubicBezTo>
                    <a:pt x="21890" y="560969"/>
                    <a:pt x="33249" y="566649"/>
                    <a:pt x="0" y="5334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0" name="Freeform 20"/>
            <p:cNvSpPr/>
            <p:nvPr/>
          </p:nvSpPr>
          <p:spPr>
            <a:xfrm>
              <a:off x="2733480" y="5454000"/>
              <a:ext cx="114480" cy="570240"/>
            </a:xfrm>
            <a:custGeom>
              <a:avLst/>
              <a:gdLst/>
              <a:ahLst/>
              <a:rect l="l" t="t" r="r" b="b"/>
              <a:pathLst>
                <a:path w="114557" h="570441">
                  <a:moveTo>
                    <a:pt x="66932" y="6705"/>
                  </a:moveTo>
                  <a:cubicBezTo>
                    <a:pt x="91591" y="80681"/>
                    <a:pt x="67264" y="0"/>
                    <a:pt x="85982" y="159105"/>
                  </a:cubicBezTo>
                  <a:cubicBezTo>
                    <a:pt x="87512" y="172106"/>
                    <a:pt x="92332" y="184505"/>
                    <a:pt x="95507" y="197205"/>
                  </a:cubicBezTo>
                  <a:cubicBezTo>
                    <a:pt x="98682" y="241655"/>
                    <a:pt x="99825" y="286297"/>
                    <a:pt x="105032" y="330555"/>
                  </a:cubicBezTo>
                  <a:cubicBezTo>
                    <a:pt x="106205" y="340526"/>
                    <a:pt x="114557" y="349090"/>
                    <a:pt x="114557" y="359130"/>
                  </a:cubicBezTo>
                  <a:cubicBezTo>
                    <a:pt x="114557" y="407293"/>
                    <a:pt x="105690" y="400842"/>
                    <a:pt x="85982" y="435330"/>
                  </a:cubicBezTo>
                  <a:cubicBezTo>
                    <a:pt x="78937" y="447658"/>
                    <a:pt x="76173" y="462649"/>
                    <a:pt x="66932" y="473430"/>
                  </a:cubicBezTo>
                  <a:cubicBezTo>
                    <a:pt x="43866" y="500340"/>
                    <a:pt x="29304" y="501848"/>
                    <a:pt x="257" y="511530"/>
                  </a:cubicBezTo>
                  <a:cubicBezTo>
                    <a:pt x="33740" y="561755"/>
                    <a:pt x="0" y="525027"/>
                    <a:pt x="57407" y="549630"/>
                  </a:cubicBezTo>
                  <a:cubicBezTo>
                    <a:pt x="105966" y="570441"/>
                    <a:pt x="69724" y="568680"/>
                    <a:pt x="95507" y="56868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1" name="Freeform 21"/>
            <p:cNvSpPr/>
            <p:nvPr/>
          </p:nvSpPr>
          <p:spPr>
            <a:xfrm>
              <a:off x="2819520" y="5427720"/>
              <a:ext cx="86400" cy="604800"/>
            </a:xfrm>
            <a:custGeom>
              <a:avLst/>
              <a:gdLst/>
              <a:ahLst/>
              <a:rect l="l" t="t" r="r" b="b"/>
              <a:pathLst>
                <a:path w="86513" h="604654">
                  <a:moveTo>
                    <a:pt x="28575" y="4579"/>
                  </a:moveTo>
                  <a:cubicBezTo>
                    <a:pt x="57553" y="91512"/>
                    <a:pt x="29833" y="0"/>
                    <a:pt x="47625" y="204604"/>
                  </a:cubicBezTo>
                  <a:cubicBezTo>
                    <a:pt x="49027" y="220733"/>
                    <a:pt x="53975" y="236354"/>
                    <a:pt x="57150" y="252229"/>
                  </a:cubicBezTo>
                  <a:cubicBezTo>
                    <a:pt x="50800" y="264929"/>
                    <a:pt x="45145" y="278001"/>
                    <a:pt x="38100" y="290329"/>
                  </a:cubicBezTo>
                  <a:cubicBezTo>
                    <a:pt x="32420" y="300268"/>
                    <a:pt x="23070" y="308185"/>
                    <a:pt x="19050" y="318904"/>
                  </a:cubicBezTo>
                  <a:cubicBezTo>
                    <a:pt x="13366" y="334063"/>
                    <a:pt x="13452" y="350823"/>
                    <a:pt x="9525" y="366529"/>
                  </a:cubicBezTo>
                  <a:cubicBezTo>
                    <a:pt x="7090" y="376269"/>
                    <a:pt x="3175" y="385579"/>
                    <a:pt x="0" y="395104"/>
                  </a:cubicBezTo>
                  <a:cubicBezTo>
                    <a:pt x="1270" y="400185"/>
                    <a:pt x="13584" y="453580"/>
                    <a:pt x="19050" y="461779"/>
                  </a:cubicBezTo>
                  <a:cubicBezTo>
                    <a:pt x="33718" y="483781"/>
                    <a:pt x="55115" y="495347"/>
                    <a:pt x="76200" y="509404"/>
                  </a:cubicBezTo>
                  <a:cubicBezTo>
                    <a:pt x="86513" y="591905"/>
                    <a:pt x="85725" y="560006"/>
                    <a:pt x="85725" y="604654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2" name="Freeform 22"/>
            <p:cNvSpPr/>
            <p:nvPr/>
          </p:nvSpPr>
          <p:spPr>
            <a:xfrm>
              <a:off x="2438640" y="5499000"/>
              <a:ext cx="133200" cy="476280"/>
            </a:xfrm>
            <a:custGeom>
              <a:avLst/>
              <a:gdLst/>
              <a:ahLst/>
              <a:rect l="l" t="t" r="r" b="b"/>
              <a:pathLst>
                <a:path w="133350" h="476250">
                  <a:moveTo>
                    <a:pt x="133350" y="0"/>
                  </a:moveTo>
                  <a:cubicBezTo>
                    <a:pt x="130175" y="57150"/>
                    <a:pt x="131559" y="114737"/>
                    <a:pt x="123825" y="171450"/>
                  </a:cubicBezTo>
                  <a:cubicBezTo>
                    <a:pt x="121907" y="185519"/>
                    <a:pt x="109761" y="196255"/>
                    <a:pt x="104775" y="209550"/>
                  </a:cubicBezTo>
                  <a:cubicBezTo>
                    <a:pt x="100178" y="221807"/>
                    <a:pt x="100407" y="235618"/>
                    <a:pt x="95250" y="247650"/>
                  </a:cubicBezTo>
                  <a:cubicBezTo>
                    <a:pt x="90741" y="258172"/>
                    <a:pt x="80849" y="265764"/>
                    <a:pt x="76200" y="276225"/>
                  </a:cubicBezTo>
                  <a:cubicBezTo>
                    <a:pt x="68045" y="294575"/>
                    <a:pt x="68289" y="316667"/>
                    <a:pt x="57150" y="333375"/>
                  </a:cubicBezTo>
                  <a:cubicBezTo>
                    <a:pt x="26961" y="378658"/>
                    <a:pt x="41720" y="351090"/>
                    <a:pt x="19050" y="419100"/>
                  </a:cubicBezTo>
                  <a:lnTo>
                    <a:pt x="9525" y="447675"/>
                  </a:lnTo>
                  <a:lnTo>
                    <a:pt x="0" y="476250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3" name="Freeform 23"/>
            <p:cNvSpPr/>
            <p:nvPr/>
          </p:nvSpPr>
          <p:spPr>
            <a:xfrm>
              <a:off x="2533680" y="5518080"/>
              <a:ext cx="29880" cy="457200"/>
            </a:xfrm>
            <a:custGeom>
              <a:avLst/>
              <a:gdLst/>
              <a:ahLst/>
              <a:rect l="l" t="t" r="r" b="b"/>
              <a:pathLst>
                <a:path w="30186" h="457200">
                  <a:moveTo>
                    <a:pt x="0" y="0"/>
                  </a:moveTo>
                  <a:cubicBezTo>
                    <a:pt x="3175" y="120650"/>
                    <a:pt x="1125" y="241551"/>
                    <a:pt x="9525" y="361950"/>
                  </a:cubicBezTo>
                  <a:cubicBezTo>
                    <a:pt x="10715" y="379006"/>
                    <a:pt x="26874" y="392562"/>
                    <a:pt x="28575" y="409575"/>
                  </a:cubicBezTo>
                  <a:cubicBezTo>
                    <a:pt x="30186" y="425684"/>
                    <a:pt x="19050" y="457200"/>
                    <a:pt x="19050" y="4572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4" name="Freeform 24"/>
            <p:cNvSpPr/>
            <p:nvPr/>
          </p:nvSpPr>
          <p:spPr>
            <a:xfrm>
              <a:off x="2476440" y="5556240"/>
              <a:ext cx="142560" cy="476280"/>
            </a:xfrm>
            <a:custGeom>
              <a:avLst/>
              <a:gdLst/>
              <a:ahLst/>
              <a:rect l="l" t="t" r="r" b="b"/>
              <a:pathLst>
                <a:path w="142875" h="476250">
                  <a:moveTo>
                    <a:pt x="85725" y="0"/>
                  </a:moveTo>
                  <a:cubicBezTo>
                    <a:pt x="88900" y="19050"/>
                    <a:pt x="91795" y="38149"/>
                    <a:pt x="95250" y="57150"/>
                  </a:cubicBezTo>
                  <a:cubicBezTo>
                    <a:pt x="98146" y="73078"/>
                    <a:pt x="102883" y="88697"/>
                    <a:pt x="104775" y="104775"/>
                  </a:cubicBezTo>
                  <a:cubicBezTo>
                    <a:pt x="108049" y="132603"/>
                    <a:pt x="104071" y="208141"/>
                    <a:pt x="123825" y="247650"/>
                  </a:cubicBezTo>
                  <a:cubicBezTo>
                    <a:pt x="128945" y="257889"/>
                    <a:pt x="136525" y="266700"/>
                    <a:pt x="142875" y="276225"/>
                  </a:cubicBezTo>
                  <a:cubicBezTo>
                    <a:pt x="136525" y="295275"/>
                    <a:pt x="136893" y="318129"/>
                    <a:pt x="123825" y="333375"/>
                  </a:cubicBezTo>
                  <a:cubicBezTo>
                    <a:pt x="115306" y="343314"/>
                    <a:pt x="97757" y="337743"/>
                    <a:pt x="85725" y="342900"/>
                  </a:cubicBezTo>
                  <a:cubicBezTo>
                    <a:pt x="75203" y="347409"/>
                    <a:pt x="66675" y="355600"/>
                    <a:pt x="57150" y="361950"/>
                  </a:cubicBezTo>
                  <a:lnTo>
                    <a:pt x="19050" y="419100"/>
                  </a:lnTo>
                  <a:cubicBezTo>
                    <a:pt x="12700" y="428625"/>
                    <a:pt x="0" y="436227"/>
                    <a:pt x="0" y="447675"/>
                  </a:cubicBezTo>
                  <a:lnTo>
                    <a:pt x="0" y="476250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5" name="Freeform 25"/>
            <p:cNvSpPr/>
            <p:nvPr/>
          </p:nvSpPr>
          <p:spPr>
            <a:xfrm>
              <a:off x="2495520" y="5594040"/>
              <a:ext cx="114120" cy="390600"/>
            </a:xfrm>
            <a:custGeom>
              <a:avLst/>
              <a:gdLst/>
              <a:ahLst/>
              <a:rect l="l" t="t" r="r" b="b"/>
              <a:pathLst>
                <a:path w="114300" h="390525">
                  <a:moveTo>
                    <a:pt x="0" y="0"/>
                  </a:moveTo>
                  <a:cubicBezTo>
                    <a:pt x="12700" y="60325"/>
                    <a:pt x="21880" y="121500"/>
                    <a:pt x="38100" y="180975"/>
                  </a:cubicBezTo>
                  <a:cubicBezTo>
                    <a:pt x="41112" y="192019"/>
                    <a:pt x="53130" y="198831"/>
                    <a:pt x="57150" y="209550"/>
                  </a:cubicBezTo>
                  <a:cubicBezTo>
                    <a:pt x="62834" y="224709"/>
                    <a:pt x="60100" y="242381"/>
                    <a:pt x="66675" y="257175"/>
                  </a:cubicBezTo>
                  <a:cubicBezTo>
                    <a:pt x="73122" y="271682"/>
                    <a:pt x="86836" y="281813"/>
                    <a:pt x="95250" y="295275"/>
                  </a:cubicBezTo>
                  <a:cubicBezTo>
                    <a:pt x="102775" y="307316"/>
                    <a:pt x="107950" y="320675"/>
                    <a:pt x="114300" y="333375"/>
                  </a:cubicBezTo>
                  <a:cubicBezTo>
                    <a:pt x="104152" y="384113"/>
                    <a:pt x="104775" y="364811"/>
                    <a:pt x="104775" y="3905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6" name="Freeform 26"/>
            <p:cNvSpPr/>
            <p:nvPr/>
          </p:nvSpPr>
          <p:spPr>
            <a:xfrm>
              <a:off x="2400480" y="5537160"/>
              <a:ext cx="142560" cy="466560"/>
            </a:xfrm>
            <a:custGeom>
              <a:avLst/>
              <a:gdLst/>
              <a:ahLst/>
              <a:rect l="l" t="t" r="r" b="b"/>
              <a:pathLst>
                <a:path w="142875" h="466725">
                  <a:moveTo>
                    <a:pt x="142875" y="0"/>
                  </a:moveTo>
                  <a:cubicBezTo>
                    <a:pt x="139700" y="76200"/>
                    <a:pt x="138597" y="152515"/>
                    <a:pt x="133350" y="228600"/>
                  </a:cubicBezTo>
                  <a:cubicBezTo>
                    <a:pt x="133216" y="230547"/>
                    <a:pt x="121899" y="295301"/>
                    <a:pt x="114300" y="304800"/>
                  </a:cubicBezTo>
                  <a:cubicBezTo>
                    <a:pt x="107149" y="313739"/>
                    <a:pt x="95250" y="317500"/>
                    <a:pt x="85725" y="323850"/>
                  </a:cubicBezTo>
                  <a:cubicBezTo>
                    <a:pt x="82550" y="336550"/>
                    <a:pt x="76200" y="348859"/>
                    <a:pt x="76200" y="361950"/>
                  </a:cubicBezTo>
                  <a:cubicBezTo>
                    <a:pt x="76200" y="371990"/>
                    <a:pt x="88483" y="380871"/>
                    <a:pt x="85725" y="390525"/>
                  </a:cubicBezTo>
                  <a:cubicBezTo>
                    <a:pt x="81364" y="405789"/>
                    <a:pt x="66377" y="415707"/>
                    <a:pt x="57150" y="428625"/>
                  </a:cubicBezTo>
                  <a:cubicBezTo>
                    <a:pt x="50496" y="437940"/>
                    <a:pt x="47625" y="450850"/>
                    <a:pt x="38100" y="457200"/>
                  </a:cubicBezTo>
                  <a:cubicBezTo>
                    <a:pt x="27208" y="464462"/>
                    <a:pt x="0" y="466725"/>
                    <a:pt x="0" y="4667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7" name="Freeform 27"/>
            <p:cNvSpPr/>
            <p:nvPr/>
          </p:nvSpPr>
          <p:spPr>
            <a:xfrm>
              <a:off x="2370960" y="5542200"/>
              <a:ext cx="160920" cy="438840"/>
            </a:xfrm>
            <a:custGeom>
              <a:avLst/>
              <a:gdLst/>
              <a:ahLst/>
              <a:rect l="l" t="t" r="r" b="b"/>
              <a:pathLst>
                <a:path w="160935" h="438912">
                  <a:moveTo>
                    <a:pt x="160935" y="0"/>
                  </a:moveTo>
                  <a:cubicBezTo>
                    <a:pt x="151181" y="12192"/>
                    <a:pt x="137824" y="22225"/>
                    <a:pt x="131674" y="36576"/>
                  </a:cubicBezTo>
                  <a:cubicBezTo>
                    <a:pt x="89343" y="135349"/>
                    <a:pt x="140980" y="78478"/>
                    <a:pt x="102413" y="117043"/>
                  </a:cubicBezTo>
                  <a:cubicBezTo>
                    <a:pt x="95098" y="131674"/>
                    <a:pt x="88301" y="146575"/>
                    <a:pt x="80468" y="160935"/>
                  </a:cubicBezTo>
                  <a:cubicBezTo>
                    <a:pt x="50852" y="215233"/>
                    <a:pt x="65027" y="177997"/>
                    <a:pt x="51207" y="219456"/>
                  </a:cubicBezTo>
                  <a:cubicBezTo>
                    <a:pt x="56084" y="236525"/>
                    <a:pt x="57898" y="254785"/>
                    <a:pt x="65837" y="270663"/>
                  </a:cubicBezTo>
                  <a:cubicBezTo>
                    <a:pt x="125475" y="389940"/>
                    <a:pt x="77538" y="254558"/>
                    <a:pt x="102413" y="329184"/>
                  </a:cubicBezTo>
                  <a:cubicBezTo>
                    <a:pt x="95098" y="334061"/>
                    <a:pt x="86685" y="337598"/>
                    <a:pt x="80468" y="343815"/>
                  </a:cubicBezTo>
                  <a:cubicBezTo>
                    <a:pt x="74251" y="350032"/>
                    <a:pt x="70947" y="358606"/>
                    <a:pt x="65837" y="365760"/>
                  </a:cubicBezTo>
                  <a:cubicBezTo>
                    <a:pt x="58751" y="375681"/>
                    <a:pt x="50978" y="385100"/>
                    <a:pt x="43892" y="395021"/>
                  </a:cubicBezTo>
                  <a:cubicBezTo>
                    <a:pt x="38782" y="402175"/>
                    <a:pt x="35478" y="410750"/>
                    <a:pt x="29261" y="416967"/>
                  </a:cubicBezTo>
                  <a:cubicBezTo>
                    <a:pt x="20640" y="425588"/>
                    <a:pt x="0" y="438912"/>
                    <a:pt x="0" y="438912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8" name="Freeform 28"/>
            <p:cNvSpPr/>
            <p:nvPr/>
          </p:nvSpPr>
          <p:spPr>
            <a:xfrm>
              <a:off x="2405880" y="5578560"/>
              <a:ext cx="155160" cy="438840"/>
            </a:xfrm>
            <a:custGeom>
              <a:avLst/>
              <a:gdLst/>
              <a:ahLst/>
              <a:rect l="l" t="t" r="r" b="b"/>
              <a:pathLst>
                <a:path w="155162" h="438912">
                  <a:moveTo>
                    <a:pt x="155162" y="0"/>
                  </a:moveTo>
                  <a:cubicBezTo>
                    <a:pt x="151363" y="15193"/>
                    <a:pt x="139892" y="64250"/>
                    <a:pt x="133216" y="73152"/>
                  </a:cubicBezTo>
                  <a:cubicBezTo>
                    <a:pt x="126673" y="81876"/>
                    <a:pt x="113709" y="82906"/>
                    <a:pt x="103955" y="87783"/>
                  </a:cubicBezTo>
                  <a:cubicBezTo>
                    <a:pt x="101517" y="104852"/>
                    <a:pt x="100021" y="122082"/>
                    <a:pt x="96640" y="138989"/>
                  </a:cubicBezTo>
                  <a:cubicBezTo>
                    <a:pt x="95128" y="146550"/>
                    <a:pt x="90704" y="153348"/>
                    <a:pt x="89325" y="160935"/>
                  </a:cubicBezTo>
                  <a:cubicBezTo>
                    <a:pt x="85808" y="180277"/>
                    <a:pt x="86431" y="200301"/>
                    <a:pt x="82010" y="219456"/>
                  </a:cubicBezTo>
                  <a:cubicBezTo>
                    <a:pt x="79057" y="232251"/>
                    <a:pt x="70893" y="243380"/>
                    <a:pt x="67379" y="256032"/>
                  </a:cubicBezTo>
                  <a:cubicBezTo>
                    <a:pt x="58672" y="287378"/>
                    <a:pt x="53324" y="319569"/>
                    <a:pt x="45434" y="351130"/>
                  </a:cubicBezTo>
                  <a:cubicBezTo>
                    <a:pt x="43564" y="358611"/>
                    <a:pt x="43570" y="367623"/>
                    <a:pt x="38118" y="373075"/>
                  </a:cubicBezTo>
                  <a:cubicBezTo>
                    <a:pt x="32666" y="378527"/>
                    <a:pt x="23488" y="377952"/>
                    <a:pt x="16173" y="380391"/>
                  </a:cubicBezTo>
                  <a:cubicBezTo>
                    <a:pt x="11296" y="387706"/>
                    <a:pt x="2632" y="393612"/>
                    <a:pt x="1542" y="402336"/>
                  </a:cubicBezTo>
                  <a:cubicBezTo>
                    <a:pt x="0" y="414673"/>
                    <a:pt x="8858" y="438912"/>
                    <a:pt x="8858" y="438912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89" name="Freeform 29"/>
            <p:cNvSpPr/>
            <p:nvPr/>
          </p:nvSpPr>
          <p:spPr>
            <a:xfrm>
              <a:off x="2392920" y="5571360"/>
              <a:ext cx="138960" cy="424080"/>
            </a:xfrm>
            <a:custGeom>
              <a:avLst/>
              <a:gdLst/>
              <a:ahLst/>
              <a:rect l="l" t="t" r="r" b="b"/>
              <a:pathLst>
                <a:path w="138989" h="424282">
                  <a:moveTo>
                    <a:pt x="138989" y="0"/>
                  </a:moveTo>
                  <a:cubicBezTo>
                    <a:pt x="131674" y="7315"/>
                    <a:pt x="122176" y="12964"/>
                    <a:pt x="117043" y="21946"/>
                  </a:cubicBezTo>
                  <a:cubicBezTo>
                    <a:pt x="112055" y="30675"/>
                    <a:pt x="113811" y="42019"/>
                    <a:pt x="109728" y="51206"/>
                  </a:cubicBezTo>
                  <a:cubicBezTo>
                    <a:pt x="86385" y="103726"/>
                    <a:pt x="96792" y="72863"/>
                    <a:pt x="73152" y="102413"/>
                  </a:cubicBezTo>
                  <a:cubicBezTo>
                    <a:pt x="67660" y="109278"/>
                    <a:pt x="65387" y="118866"/>
                    <a:pt x="58522" y="124358"/>
                  </a:cubicBezTo>
                  <a:cubicBezTo>
                    <a:pt x="52501" y="129175"/>
                    <a:pt x="43891" y="129235"/>
                    <a:pt x="36576" y="131674"/>
                  </a:cubicBezTo>
                  <a:cubicBezTo>
                    <a:pt x="30522" y="161943"/>
                    <a:pt x="23123" y="174557"/>
                    <a:pt x="36576" y="204826"/>
                  </a:cubicBezTo>
                  <a:cubicBezTo>
                    <a:pt x="41528" y="215967"/>
                    <a:pt x="51207" y="224333"/>
                    <a:pt x="58522" y="234086"/>
                  </a:cubicBezTo>
                  <a:cubicBezTo>
                    <a:pt x="56083" y="241401"/>
                    <a:pt x="53324" y="248618"/>
                    <a:pt x="51206" y="256032"/>
                  </a:cubicBezTo>
                  <a:cubicBezTo>
                    <a:pt x="48444" y="265699"/>
                    <a:pt x="49468" y="276928"/>
                    <a:pt x="43891" y="285293"/>
                  </a:cubicBezTo>
                  <a:cubicBezTo>
                    <a:pt x="39014" y="292608"/>
                    <a:pt x="29261" y="295046"/>
                    <a:pt x="21946" y="299923"/>
                  </a:cubicBezTo>
                  <a:cubicBezTo>
                    <a:pt x="19507" y="309677"/>
                    <a:pt x="18590" y="319943"/>
                    <a:pt x="14630" y="329184"/>
                  </a:cubicBezTo>
                  <a:cubicBezTo>
                    <a:pt x="11167" y="337265"/>
                    <a:pt x="0" y="342338"/>
                    <a:pt x="0" y="351130"/>
                  </a:cubicBezTo>
                  <a:cubicBezTo>
                    <a:pt x="0" y="375997"/>
                    <a:pt x="14630" y="424282"/>
                    <a:pt x="14630" y="424282"/>
                  </a:cubicBezTo>
                  <a:lnTo>
                    <a:pt x="29261" y="409651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0" name="Freeform 30"/>
            <p:cNvSpPr/>
            <p:nvPr/>
          </p:nvSpPr>
          <p:spPr>
            <a:xfrm>
              <a:off x="2488680" y="5556600"/>
              <a:ext cx="130680" cy="416880"/>
            </a:xfrm>
            <a:custGeom>
              <a:avLst/>
              <a:gdLst/>
              <a:ahLst/>
              <a:rect l="l" t="t" r="r" b="b"/>
              <a:pathLst>
                <a:path w="130752" h="416966">
                  <a:moveTo>
                    <a:pt x="64915" y="0"/>
                  </a:moveTo>
                  <a:cubicBezTo>
                    <a:pt x="47106" y="44523"/>
                    <a:pt x="41391" y="52373"/>
                    <a:pt x="35655" y="109728"/>
                  </a:cubicBezTo>
                  <a:cubicBezTo>
                    <a:pt x="27254" y="193730"/>
                    <a:pt x="39298" y="160961"/>
                    <a:pt x="13709" y="212140"/>
                  </a:cubicBezTo>
                  <a:cubicBezTo>
                    <a:pt x="218" y="279599"/>
                    <a:pt x="0" y="260640"/>
                    <a:pt x="21024" y="365760"/>
                  </a:cubicBezTo>
                  <a:cubicBezTo>
                    <a:pt x="23163" y="376453"/>
                    <a:pt x="31359" y="384997"/>
                    <a:pt x="35655" y="395020"/>
                  </a:cubicBezTo>
                  <a:cubicBezTo>
                    <a:pt x="38693" y="402108"/>
                    <a:pt x="40532" y="409651"/>
                    <a:pt x="42970" y="416966"/>
                  </a:cubicBezTo>
                  <a:cubicBezTo>
                    <a:pt x="52724" y="414528"/>
                    <a:pt x="62693" y="412830"/>
                    <a:pt x="72231" y="409651"/>
                  </a:cubicBezTo>
                  <a:cubicBezTo>
                    <a:pt x="91995" y="403063"/>
                    <a:pt x="130752" y="387705"/>
                    <a:pt x="130752" y="38770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1" name="Freeform 31"/>
            <p:cNvSpPr/>
            <p:nvPr/>
          </p:nvSpPr>
          <p:spPr>
            <a:xfrm>
              <a:off x="2765880" y="5476320"/>
              <a:ext cx="131400" cy="547560"/>
            </a:xfrm>
            <a:custGeom>
              <a:avLst/>
              <a:gdLst/>
              <a:ahLst/>
              <a:rect l="l" t="t" r="r" b="b"/>
              <a:pathLst>
                <a:path w="131674" h="547542">
                  <a:moveTo>
                    <a:pt x="0" y="0"/>
                  </a:moveTo>
                  <a:cubicBezTo>
                    <a:pt x="2438" y="95098"/>
                    <a:pt x="2790" y="190272"/>
                    <a:pt x="7315" y="285293"/>
                  </a:cubicBezTo>
                  <a:cubicBezTo>
                    <a:pt x="7682" y="292995"/>
                    <a:pt x="9694" y="301315"/>
                    <a:pt x="14631" y="307239"/>
                  </a:cubicBezTo>
                  <a:cubicBezTo>
                    <a:pt x="22436" y="316605"/>
                    <a:pt x="34138" y="321869"/>
                    <a:pt x="43891" y="329184"/>
                  </a:cubicBezTo>
                  <a:cubicBezTo>
                    <a:pt x="48768" y="343815"/>
                    <a:pt x="51625" y="359282"/>
                    <a:pt x="58522" y="373076"/>
                  </a:cubicBezTo>
                  <a:cubicBezTo>
                    <a:pt x="102539" y="461110"/>
                    <a:pt x="61124" y="346663"/>
                    <a:pt x="95098" y="431597"/>
                  </a:cubicBezTo>
                  <a:cubicBezTo>
                    <a:pt x="109947" y="468719"/>
                    <a:pt x="109697" y="475333"/>
                    <a:pt x="117043" y="512064"/>
                  </a:cubicBezTo>
                  <a:cubicBezTo>
                    <a:pt x="114605" y="521818"/>
                    <a:pt x="102619" y="534216"/>
                    <a:pt x="109728" y="541325"/>
                  </a:cubicBezTo>
                  <a:cubicBezTo>
                    <a:pt x="115945" y="547542"/>
                    <a:pt x="131674" y="526695"/>
                    <a:pt x="131674" y="52669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2" name="Freeform 32"/>
            <p:cNvSpPr/>
            <p:nvPr/>
          </p:nvSpPr>
          <p:spPr>
            <a:xfrm>
              <a:off x="2765880" y="5468760"/>
              <a:ext cx="58320" cy="504720"/>
            </a:xfrm>
            <a:custGeom>
              <a:avLst/>
              <a:gdLst/>
              <a:ahLst/>
              <a:rect l="l" t="t" r="r" b="b"/>
              <a:pathLst>
                <a:path w="58522" h="504749">
                  <a:moveTo>
                    <a:pt x="21946" y="0"/>
                  </a:moveTo>
                  <a:cubicBezTo>
                    <a:pt x="19508" y="60960"/>
                    <a:pt x="20909" y="122195"/>
                    <a:pt x="14631" y="182880"/>
                  </a:cubicBezTo>
                  <a:cubicBezTo>
                    <a:pt x="13509" y="193727"/>
                    <a:pt x="0" y="201236"/>
                    <a:pt x="0" y="212141"/>
                  </a:cubicBezTo>
                  <a:cubicBezTo>
                    <a:pt x="0" y="253733"/>
                    <a:pt x="16909" y="257740"/>
                    <a:pt x="43891" y="277978"/>
                  </a:cubicBezTo>
                  <a:cubicBezTo>
                    <a:pt x="41453" y="329184"/>
                    <a:pt x="40664" y="380496"/>
                    <a:pt x="36576" y="431597"/>
                  </a:cubicBezTo>
                  <a:cubicBezTo>
                    <a:pt x="35774" y="441619"/>
                    <a:pt x="31442" y="451044"/>
                    <a:pt x="29261" y="460858"/>
                  </a:cubicBezTo>
                  <a:cubicBezTo>
                    <a:pt x="26564" y="472995"/>
                    <a:pt x="24384" y="485242"/>
                    <a:pt x="21946" y="497434"/>
                  </a:cubicBezTo>
                  <a:lnTo>
                    <a:pt x="58522" y="504749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3" name="Freeform 33"/>
            <p:cNvSpPr/>
            <p:nvPr/>
          </p:nvSpPr>
          <p:spPr>
            <a:xfrm>
              <a:off x="2707560" y="5498280"/>
              <a:ext cx="131400" cy="491400"/>
            </a:xfrm>
            <a:custGeom>
              <a:avLst/>
              <a:gdLst/>
              <a:ahLst/>
              <a:rect l="l" t="t" r="r" b="b"/>
              <a:pathLst>
                <a:path w="131673" h="491440">
                  <a:moveTo>
                    <a:pt x="51206" y="0"/>
                  </a:moveTo>
                  <a:cubicBezTo>
                    <a:pt x="43891" y="9754"/>
                    <a:pt x="33788" y="17941"/>
                    <a:pt x="29260" y="29261"/>
                  </a:cubicBezTo>
                  <a:cubicBezTo>
                    <a:pt x="23751" y="43032"/>
                    <a:pt x="23583" y="58411"/>
                    <a:pt x="21945" y="73152"/>
                  </a:cubicBezTo>
                  <a:cubicBezTo>
                    <a:pt x="18703" y="102335"/>
                    <a:pt x="19457" y="131971"/>
                    <a:pt x="14630" y="160934"/>
                  </a:cubicBezTo>
                  <a:cubicBezTo>
                    <a:pt x="12095" y="176146"/>
                    <a:pt x="4877" y="190195"/>
                    <a:pt x="0" y="204826"/>
                  </a:cubicBezTo>
                  <a:cubicBezTo>
                    <a:pt x="2438" y="241402"/>
                    <a:pt x="3267" y="278121"/>
                    <a:pt x="7315" y="314554"/>
                  </a:cubicBezTo>
                  <a:cubicBezTo>
                    <a:pt x="10944" y="347216"/>
                    <a:pt x="23575" y="335284"/>
                    <a:pt x="43891" y="365760"/>
                  </a:cubicBezTo>
                  <a:cubicBezTo>
                    <a:pt x="62347" y="393445"/>
                    <a:pt x="52304" y="381489"/>
                    <a:pt x="73152" y="402336"/>
                  </a:cubicBezTo>
                  <a:cubicBezTo>
                    <a:pt x="75590" y="409651"/>
                    <a:pt x="77019" y="417385"/>
                    <a:pt x="80467" y="424282"/>
                  </a:cubicBezTo>
                  <a:cubicBezTo>
                    <a:pt x="84399" y="432145"/>
                    <a:pt x="91634" y="438146"/>
                    <a:pt x="95097" y="446227"/>
                  </a:cubicBezTo>
                  <a:cubicBezTo>
                    <a:pt x="99867" y="457358"/>
                    <a:pt x="98196" y="485406"/>
                    <a:pt x="117043" y="490118"/>
                  </a:cubicBezTo>
                  <a:cubicBezTo>
                    <a:pt x="122332" y="491440"/>
                    <a:pt x="126796" y="485241"/>
                    <a:pt x="131673" y="482803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4" name="Freeform 34"/>
            <p:cNvSpPr/>
            <p:nvPr/>
          </p:nvSpPr>
          <p:spPr>
            <a:xfrm>
              <a:off x="2795040" y="5498280"/>
              <a:ext cx="131040" cy="504720"/>
            </a:xfrm>
            <a:custGeom>
              <a:avLst/>
              <a:gdLst/>
              <a:ahLst/>
              <a:rect l="l" t="t" r="r" b="b"/>
              <a:pathLst>
                <a:path w="131102" h="504749">
                  <a:moveTo>
                    <a:pt x="0" y="0"/>
                  </a:moveTo>
                  <a:cubicBezTo>
                    <a:pt x="24384" y="51206"/>
                    <a:pt x="52089" y="100960"/>
                    <a:pt x="73152" y="153619"/>
                  </a:cubicBezTo>
                  <a:cubicBezTo>
                    <a:pt x="78029" y="165811"/>
                    <a:pt x="84009" y="177618"/>
                    <a:pt x="87782" y="190195"/>
                  </a:cubicBezTo>
                  <a:cubicBezTo>
                    <a:pt x="94730" y="213356"/>
                    <a:pt x="93974" y="233528"/>
                    <a:pt x="102413" y="256032"/>
                  </a:cubicBezTo>
                  <a:cubicBezTo>
                    <a:pt x="131102" y="332539"/>
                    <a:pt x="105582" y="239446"/>
                    <a:pt x="124358" y="314554"/>
                  </a:cubicBezTo>
                  <a:cubicBezTo>
                    <a:pt x="122040" y="335414"/>
                    <a:pt x="121983" y="377826"/>
                    <a:pt x="109728" y="402336"/>
                  </a:cubicBezTo>
                  <a:cubicBezTo>
                    <a:pt x="105796" y="410200"/>
                    <a:pt x="99975" y="416967"/>
                    <a:pt x="95098" y="424282"/>
                  </a:cubicBezTo>
                  <a:cubicBezTo>
                    <a:pt x="83642" y="470101"/>
                    <a:pt x="87782" y="443488"/>
                    <a:pt x="87782" y="504749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5" name="Freeform 35"/>
            <p:cNvSpPr/>
            <p:nvPr/>
          </p:nvSpPr>
          <p:spPr>
            <a:xfrm>
              <a:off x="3076920" y="5470200"/>
              <a:ext cx="176400" cy="561960"/>
            </a:xfrm>
            <a:custGeom>
              <a:avLst/>
              <a:gdLst/>
              <a:ahLst/>
              <a:rect l="l" t="t" r="r" b="b"/>
              <a:pathLst>
                <a:path w="176470" h="561975">
                  <a:moveTo>
                    <a:pt x="0" y="0"/>
                  </a:moveTo>
                  <a:cubicBezTo>
                    <a:pt x="16597" y="33193"/>
                    <a:pt x="25938" y="49240"/>
                    <a:pt x="38100" y="85725"/>
                  </a:cubicBezTo>
                  <a:cubicBezTo>
                    <a:pt x="64817" y="165875"/>
                    <a:pt x="49239" y="129473"/>
                    <a:pt x="66675" y="190500"/>
                  </a:cubicBezTo>
                  <a:cubicBezTo>
                    <a:pt x="69433" y="200154"/>
                    <a:pt x="73025" y="209550"/>
                    <a:pt x="76200" y="219075"/>
                  </a:cubicBezTo>
                  <a:cubicBezTo>
                    <a:pt x="79375" y="244475"/>
                    <a:pt x="80362" y="270246"/>
                    <a:pt x="85725" y="295275"/>
                  </a:cubicBezTo>
                  <a:cubicBezTo>
                    <a:pt x="89932" y="314910"/>
                    <a:pt x="100837" y="332734"/>
                    <a:pt x="104775" y="352425"/>
                  </a:cubicBezTo>
                  <a:cubicBezTo>
                    <a:pt x="107950" y="368300"/>
                    <a:pt x="107601" y="385312"/>
                    <a:pt x="114300" y="400050"/>
                  </a:cubicBezTo>
                  <a:cubicBezTo>
                    <a:pt x="123774" y="420893"/>
                    <a:pt x="145160" y="435480"/>
                    <a:pt x="152400" y="457200"/>
                  </a:cubicBezTo>
                  <a:cubicBezTo>
                    <a:pt x="176470" y="529410"/>
                    <a:pt x="171450" y="494270"/>
                    <a:pt x="171450" y="56197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6" name="Freeform 36"/>
            <p:cNvSpPr/>
            <p:nvPr/>
          </p:nvSpPr>
          <p:spPr>
            <a:xfrm>
              <a:off x="3295440" y="5499000"/>
              <a:ext cx="32760" cy="523800"/>
            </a:xfrm>
            <a:custGeom>
              <a:avLst/>
              <a:gdLst/>
              <a:ahLst/>
              <a:rect l="l" t="t" r="r" b="b"/>
              <a:pathLst>
                <a:path w="33075" h="523875">
                  <a:moveTo>
                    <a:pt x="10226" y="0"/>
                  </a:moveTo>
                  <a:cubicBezTo>
                    <a:pt x="13401" y="50800"/>
                    <a:pt x="14686" y="101753"/>
                    <a:pt x="19751" y="152400"/>
                  </a:cubicBezTo>
                  <a:cubicBezTo>
                    <a:pt x="21054" y="165426"/>
                    <a:pt x="29276" y="177409"/>
                    <a:pt x="29276" y="190500"/>
                  </a:cubicBezTo>
                  <a:cubicBezTo>
                    <a:pt x="29276" y="353360"/>
                    <a:pt x="33075" y="327702"/>
                    <a:pt x="10226" y="419100"/>
                  </a:cubicBezTo>
                  <a:cubicBezTo>
                    <a:pt x="0" y="511136"/>
                    <a:pt x="701" y="476074"/>
                    <a:pt x="701" y="52387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7" name="Freeform 37"/>
            <p:cNvSpPr/>
            <p:nvPr/>
          </p:nvSpPr>
          <p:spPr>
            <a:xfrm>
              <a:off x="3086280" y="5518080"/>
              <a:ext cx="163080" cy="476280"/>
            </a:xfrm>
            <a:custGeom>
              <a:avLst/>
              <a:gdLst/>
              <a:ahLst/>
              <a:rect l="l" t="t" r="r" b="b"/>
              <a:pathLst>
                <a:path w="163260" h="476250">
                  <a:moveTo>
                    <a:pt x="9525" y="0"/>
                  </a:moveTo>
                  <a:cubicBezTo>
                    <a:pt x="6350" y="12700"/>
                    <a:pt x="0" y="25009"/>
                    <a:pt x="0" y="38100"/>
                  </a:cubicBezTo>
                  <a:cubicBezTo>
                    <a:pt x="0" y="118217"/>
                    <a:pt x="7547" y="104410"/>
                    <a:pt x="19050" y="161925"/>
                  </a:cubicBezTo>
                  <a:cubicBezTo>
                    <a:pt x="26012" y="196733"/>
                    <a:pt x="30662" y="231990"/>
                    <a:pt x="38100" y="266700"/>
                  </a:cubicBezTo>
                  <a:cubicBezTo>
                    <a:pt x="40204" y="276517"/>
                    <a:pt x="42644" y="286558"/>
                    <a:pt x="47625" y="295275"/>
                  </a:cubicBezTo>
                  <a:cubicBezTo>
                    <a:pt x="55501" y="309058"/>
                    <a:pt x="64975" y="322150"/>
                    <a:pt x="76200" y="333375"/>
                  </a:cubicBezTo>
                  <a:cubicBezTo>
                    <a:pt x="84295" y="341470"/>
                    <a:pt x="95250" y="346075"/>
                    <a:pt x="104775" y="352425"/>
                  </a:cubicBezTo>
                  <a:cubicBezTo>
                    <a:pt x="111125" y="361950"/>
                    <a:pt x="118705" y="370761"/>
                    <a:pt x="123825" y="381000"/>
                  </a:cubicBezTo>
                  <a:cubicBezTo>
                    <a:pt x="163260" y="459870"/>
                    <a:pt x="97805" y="356258"/>
                    <a:pt x="152400" y="438150"/>
                  </a:cubicBezTo>
                  <a:lnTo>
                    <a:pt x="161925" y="476250"/>
                  </a:ln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8" name="Freeform 38"/>
            <p:cNvSpPr/>
            <p:nvPr/>
          </p:nvSpPr>
          <p:spPr>
            <a:xfrm>
              <a:off x="3029400" y="5489280"/>
              <a:ext cx="190440" cy="472320"/>
            </a:xfrm>
            <a:custGeom>
              <a:avLst/>
              <a:gdLst/>
              <a:ahLst/>
              <a:rect l="l" t="t" r="r" b="b"/>
              <a:pathLst>
                <a:path w="190500" h="472440">
                  <a:moveTo>
                    <a:pt x="0" y="0"/>
                  </a:moveTo>
                  <a:cubicBezTo>
                    <a:pt x="3175" y="15875"/>
                    <a:pt x="3841" y="32466"/>
                    <a:pt x="9525" y="47625"/>
                  </a:cubicBezTo>
                  <a:cubicBezTo>
                    <a:pt x="13545" y="58344"/>
                    <a:pt x="22508" y="66492"/>
                    <a:pt x="28575" y="76200"/>
                  </a:cubicBezTo>
                  <a:cubicBezTo>
                    <a:pt x="38387" y="91899"/>
                    <a:pt x="47625" y="107950"/>
                    <a:pt x="57150" y="123825"/>
                  </a:cubicBezTo>
                  <a:cubicBezTo>
                    <a:pt x="63536" y="162140"/>
                    <a:pt x="58938" y="182763"/>
                    <a:pt x="85725" y="209550"/>
                  </a:cubicBezTo>
                  <a:cubicBezTo>
                    <a:pt x="93820" y="217645"/>
                    <a:pt x="104775" y="222250"/>
                    <a:pt x="114300" y="228600"/>
                  </a:cubicBezTo>
                  <a:cubicBezTo>
                    <a:pt x="117475" y="241300"/>
                    <a:pt x="123825" y="253609"/>
                    <a:pt x="123825" y="266700"/>
                  </a:cubicBezTo>
                  <a:cubicBezTo>
                    <a:pt x="123825" y="278887"/>
                    <a:pt x="107872" y="355990"/>
                    <a:pt x="104775" y="371475"/>
                  </a:cubicBezTo>
                  <a:cubicBezTo>
                    <a:pt x="111247" y="380104"/>
                    <a:pt x="145436" y="424222"/>
                    <a:pt x="152400" y="438150"/>
                  </a:cubicBezTo>
                  <a:cubicBezTo>
                    <a:pt x="156890" y="447130"/>
                    <a:pt x="153893" y="460701"/>
                    <a:pt x="161925" y="466725"/>
                  </a:cubicBezTo>
                  <a:cubicBezTo>
                    <a:pt x="169545" y="472440"/>
                    <a:pt x="180975" y="466725"/>
                    <a:pt x="190500" y="4667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399" name="Freeform 39"/>
            <p:cNvSpPr/>
            <p:nvPr/>
          </p:nvSpPr>
          <p:spPr>
            <a:xfrm>
              <a:off x="3029400" y="5470200"/>
              <a:ext cx="257040" cy="542880"/>
            </a:xfrm>
            <a:custGeom>
              <a:avLst/>
              <a:gdLst/>
              <a:ahLst/>
              <a:rect l="l" t="t" r="r" b="b"/>
              <a:pathLst>
                <a:path w="257175" h="542925">
                  <a:moveTo>
                    <a:pt x="0" y="0"/>
                  </a:moveTo>
                  <a:cubicBezTo>
                    <a:pt x="6350" y="60325"/>
                    <a:pt x="11205" y="120826"/>
                    <a:pt x="19050" y="180975"/>
                  </a:cubicBezTo>
                  <a:cubicBezTo>
                    <a:pt x="20743" y="193956"/>
                    <a:pt x="23418" y="207043"/>
                    <a:pt x="28575" y="219075"/>
                  </a:cubicBezTo>
                  <a:cubicBezTo>
                    <a:pt x="33084" y="229597"/>
                    <a:pt x="41275" y="238125"/>
                    <a:pt x="47625" y="247650"/>
                  </a:cubicBezTo>
                  <a:cubicBezTo>
                    <a:pt x="50800" y="260350"/>
                    <a:pt x="54583" y="272913"/>
                    <a:pt x="57150" y="285750"/>
                  </a:cubicBezTo>
                  <a:cubicBezTo>
                    <a:pt x="60938" y="304688"/>
                    <a:pt x="58038" y="325626"/>
                    <a:pt x="66675" y="342900"/>
                  </a:cubicBezTo>
                  <a:cubicBezTo>
                    <a:pt x="74061" y="357672"/>
                    <a:pt x="110301" y="366967"/>
                    <a:pt x="123825" y="371475"/>
                  </a:cubicBezTo>
                  <a:cubicBezTo>
                    <a:pt x="127000" y="381000"/>
                    <a:pt x="127781" y="391696"/>
                    <a:pt x="133350" y="400050"/>
                  </a:cubicBezTo>
                  <a:cubicBezTo>
                    <a:pt x="151868" y="427827"/>
                    <a:pt x="182188" y="440783"/>
                    <a:pt x="209550" y="457200"/>
                  </a:cubicBezTo>
                  <a:cubicBezTo>
                    <a:pt x="212725" y="466725"/>
                    <a:pt x="211975" y="478675"/>
                    <a:pt x="219075" y="485775"/>
                  </a:cubicBezTo>
                  <a:cubicBezTo>
                    <a:pt x="226175" y="492875"/>
                    <a:pt x="242081" y="486946"/>
                    <a:pt x="247650" y="495300"/>
                  </a:cubicBezTo>
                  <a:cubicBezTo>
                    <a:pt x="256630" y="508770"/>
                    <a:pt x="257175" y="542925"/>
                    <a:pt x="257175" y="5429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0" name="Freeform 40"/>
            <p:cNvSpPr/>
            <p:nvPr/>
          </p:nvSpPr>
          <p:spPr>
            <a:xfrm>
              <a:off x="3362760" y="5489280"/>
              <a:ext cx="68040" cy="504720"/>
            </a:xfrm>
            <a:custGeom>
              <a:avLst/>
              <a:gdLst/>
              <a:ahLst/>
              <a:rect l="l" t="t" r="r" b="b"/>
              <a:pathLst>
                <a:path w="68215" h="504825">
                  <a:moveTo>
                    <a:pt x="0" y="0"/>
                  </a:moveTo>
                  <a:cubicBezTo>
                    <a:pt x="3175" y="34925"/>
                    <a:pt x="2177" y="70484"/>
                    <a:pt x="9525" y="104775"/>
                  </a:cubicBezTo>
                  <a:cubicBezTo>
                    <a:pt x="11924" y="115969"/>
                    <a:pt x="23455" y="123111"/>
                    <a:pt x="28575" y="133350"/>
                  </a:cubicBezTo>
                  <a:cubicBezTo>
                    <a:pt x="40299" y="156798"/>
                    <a:pt x="43967" y="197125"/>
                    <a:pt x="47625" y="219075"/>
                  </a:cubicBezTo>
                  <a:cubicBezTo>
                    <a:pt x="25781" y="284608"/>
                    <a:pt x="47625" y="205376"/>
                    <a:pt x="47625" y="323850"/>
                  </a:cubicBezTo>
                  <a:cubicBezTo>
                    <a:pt x="47625" y="336941"/>
                    <a:pt x="41275" y="349250"/>
                    <a:pt x="38100" y="361950"/>
                  </a:cubicBezTo>
                  <a:cubicBezTo>
                    <a:pt x="41275" y="377825"/>
                    <a:pt x="43985" y="393800"/>
                    <a:pt x="47625" y="409575"/>
                  </a:cubicBezTo>
                  <a:cubicBezTo>
                    <a:pt x="68215" y="498799"/>
                    <a:pt x="66675" y="457929"/>
                    <a:pt x="66675" y="5048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1" name="Freeform 41"/>
            <p:cNvSpPr/>
            <p:nvPr/>
          </p:nvSpPr>
          <p:spPr>
            <a:xfrm>
              <a:off x="3286080" y="5508360"/>
              <a:ext cx="95400" cy="507600"/>
            </a:xfrm>
            <a:custGeom>
              <a:avLst/>
              <a:gdLst/>
              <a:ahLst/>
              <a:rect l="l" t="t" r="r" b="b"/>
              <a:pathLst>
                <a:path w="95465" h="507601">
                  <a:moveTo>
                    <a:pt x="85940" y="0"/>
                  </a:moveTo>
                  <a:cubicBezTo>
                    <a:pt x="79590" y="22225"/>
                    <a:pt x="73532" y="44535"/>
                    <a:pt x="66890" y="66675"/>
                  </a:cubicBezTo>
                  <a:cubicBezTo>
                    <a:pt x="64005" y="76292"/>
                    <a:pt x="59800" y="85510"/>
                    <a:pt x="57365" y="95250"/>
                  </a:cubicBezTo>
                  <a:lnTo>
                    <a:pt x="38315" y="171450"/>
                  </a:lnTo>
                  <a:cubicBezTo>
                    <a:pt x="51923" y="205470"/>
                    <a:pt x="58617" y="226029"/>
                    <a:pt x="76415" y="257175"/>
                  </a:cubicBezTo>
                  <a:cubicBezTo>
                    <a:pt x="82095" y="267114"/>
                    <a:pt x="89115" y="276225"/>
                    <a:pt x="95465" y="285750"/>
                  </a:cubicBezTo>
                  <a:cubicBezTo>
                    <a:pt x="88803" y="290746"/>
                    <a:pt x="32770" y="329965"/>
                    <a:pt x="28790" y="342900"/>
                  </a:cubicBezTo>
                  <a:cubicBezTo>
                    <a:pt x="19406" y="373397"/>
                    <a:pt x="25951" y="406950"/>
                    <a:pt x="19265" y="438150"/>
                  </a:cubicBezTo>
                  <a:cubicBezTo>
                    <a:pt x="16290" y="452034"/>
                    <a:pt x="6565" y="463550"/>
                    <a:pt x="215" y="476250"/>
                  </a:cubicBezTo>
                  <a:cubicBezTo>
                    <a:pt x="3390" y="485775"/>
                    <a:pt x="0" y="502390"/>
                    <a:pt x="9740" y="504825"/>
                  </a:cubicBezTo>
                  <a:cubicBezTo>
                    <a:pt x="20846" y="507601"/>
                    <a:pt x="31661" y="495090"/>
                    <a:pt x="38315" y="485775"/>
                  </a:cubicBezTo>
                  <a:cubicBezTo>
                    <a:pt x="48253" y="471862"/>
                    <a:pt x="57365" y="438150"/>
                    <a:pt x="57365" y="43815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2" name="Freeform 42"/>
            <p:cNvSpPr/>
            <p:nvPr/>
          </p:nvSpPr>
          <p:spPr>
            <a:xfrm>
              <a:off x="3274200" y="5479920"/>
              <a:ext cx="136080" cy="490680"/>
            </a:xfrm>
            <a:custGeom>
              <a:avLst/>
              <a:gdLst/>
              <a:ahLst/>
              <a:rect l="l" t="t" r="r" b="b"/>
              <a:pathLst>
                <a:path w="136126" h="490895">
                  <a:moveTo>
                    <a:pt x="40876" y="0"/>
                  </a:moveTo>
                  <a:cubicBezTo>
                    <a:pt x="37701" y="12700"/>
                    <a:pt x="35113" y="25561"/>
                    <a:pt x="31351" y="38100"/>
                  </a:cubicBezTo>
                  <a:cubicBezTo>
                    <a:pt x="25581" y="57334"/>
                    <a:pt x="12301" y="95250"/>
                    <a:pt x="12301" y="95250"/>
                  </a:cubicBezTo>
                  <a:cubicBezTo>
                    <a:pt x="15476" y="104775"/>
                    <a:pt x="23477" y="113921"/>
                    <a:pt x="21826" y="123825"/>
                  </a:cubicBezTo>
                  <a:cubicBezTo>
                    <a:pt x="19944" y="135117"/>
                    <a:pt x="0" y="141294"/>
                    <a:pt x="2776" y="152400"/>
                  </a:cubicBezTo>
                  <a:cubicBezTo>
                    <a:pt x="7707" y="172123"/>
                    <a:pt x="28678" y="183761"/>
                    <a:pt x="40876" y="200025"/>
                  </a:cubicBezTo>
                  <a:cubicBezTo>
                    <a:pt x="47745" y="209183"/>
                    <a:pt x="55277" y="218139"/>
                    <a:pt x="59926" y="228600"/>
                  </a:cubicBezTo>
                  <a:cubicBezTo>
                    <a:pt x="68081" y="246950"/>
                    <a:pt x="78976" y="285750"/>
                    <a:pt x="78976" y="285750"/>
                  </a:cubicBezTo>
                  <a:cubicBezTo>
                    <a:pt x="85730" y="339780"/>
                    <a:pt x="84540" y="355098"/>
                    <a:pt x="98026" y="400050"/>
                  </a:cubicBezTo>
                  <a:cubicBezTo>
                    <a:pt x="103796" y="419284"/>
                    <a:pt x="117076" y="457200"/>
                    <a:pt x="117076" y="457200"/>
                  </a:cubicBezTo>
                  <a:cubicBezTo>
                    <a:pt x="110726" y="466725"/>
                    <a:pt x="87787" y="490895"/>
                    <a:pt x="98026" y="485775"/>
                  </a:cubicBezTo>
                  <a:cubicBezTo>
                    <a:pt x="114090" y="477743"/>
                    <a:pt x="136126" y="447675"/>
                    <a:pt x="136126" y="44767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3" name="Freeform 43"/>
            <p:cNvSpPr/>
            <p:nvPr/>
          </p:nvSpPr>
          <p:spPr>
            <a:xfrm>
              <a:off x="3277080" y="5527440"/>
              <a:ext cx="96840" cy="516960"/>
            </a:xfrm>
            <a:custGeom>
              <a:avLst/>
              <a:gdLst/>
              <a:ahLst/>
              <a:rect l="l" t="t" r="r" b="b"/>
              <a:pathLst>
                <a:path w="96901" h="516989">
                  <a:moveTo>
                    <a:pt x="66675" y="0"/>
                  </a:moveTo>
                  <a:cubicBezTo>
                    <a:pt x="57150" y="6350"/>
                    <a:pt x="43220" y="8811"/>
                    <a:pt x="38100" y="19050"/>
                  </a:cubicBezTo>
                  <a:cubicBezTo>
                    <a:pt x="20139" y="54971"/>
                    <a:pt x="0" y="133350"/>
                    <a:pt x="0" y="133350"/>
                  </a:cubicBezTo>
                  <a:cubicBezTo>
                    <a:pt x="3175" y="142875"/>
                    <a:pt x="3361" y="154000"/>
                    <a:pt x="9525" y="161925"/>
                  </a:cubicBezTo>
                  <a:cubicBezTo>
                    <a:pt x="26065" y="183191"/>
                    <a:pt x="66675" y="219075"/>
                    <a:pt x="66675" y="219075"/>
                  </a:cubicBezTo>
                  <a:cubicBezTo>
                    <a:pt x="69850" y="231775"/>
                    <a:pt x="71043" y="245143"/>
                    <a:pt x="76200" y="257175"/>
                  </a:cubicBezTo>
                  <a:cubicBezTo>
                    <a:pt x="80709" y="267697"/>
                    <a:pt x="93368" y="274458"/>
                    <a:pt x="95250" y="285750"/>
                  </a:cubicBezTo>
                  <a:cubicBezTo>
                    <a:pt x="96901" y="295654"/>
                    <a:pt x="88900" y="304800"/>
                    <a:pt x="85725" y="314325"/>
                  </a:cubicBezTo>
                  <a:cubicBezTo>
                    <a:pt x="82550" y="339725"/>
                    <a:pt x="83835" y="366093"/>
                    <a:pt x="76200" y="390525"/>
                  </a:cubicBezTo>
                  <a:cubicBezTo>
                    <a:pt x="36680" y="516989"/>
                    <a:pt x="38100" y="489821"/>
                    <a:pt x="38100" y="4572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4" name="Freeform 44"/>
            <p:cNvSpPr/>
            <p:nvPr/>
          </p:nvSpPr>
          <p:spPr>
            <a:xfrm>
              <a:off x="3181320" y="5470200"/>
              <a:ext cx="219240" cy="538560"/>
            </a:xfrm>
            <a:custGeom>
              <a:avLst/>
              <a:gdLst/>
              <a:ahLst/>
              <a:rect l="l" t="t" r="r" b="b"/>
              <a:pathLst>
                <a:path w="219332" h="538684">
                  <a:moveTo>
                    <a:pt x="219332" y="0"/>
                  </a:moveTo>
                  <a:cubicBezTo>
                    <a:pt x="189862" y="338908"/>
                    <a:pt x="216649" y="124293"/>
                    <a:pt x="190757" y="266700"/>
                  </a:cubicBezTo>
                  <a:cubicBezTo>
                    <a:pt x="187302" y="285701"/>
                    <a:pt x="186781" y="305352"/>
                    <a:pt x="181232" y="323850"/>
                  </a:cubicBezTo>
                  <a:cubicBezTo>
                    <a:pt x="177152" y="337450"/>
                    <a:pt x="172222" y="351910"/>
                    <a:pt x="162182" y="361950"/>
                  </a:cubicBezTo>
                  <a:cubicBezTo>
                    <a:pt x="155871" y="368261"/>
                    <a:pt x="73206" y="437286"/>
                    <a:pt x="38357" y="457200"/>
                  </a:cubicBezTo>
                  <a:cubicBezTo>
                    <a:pt x="26029" y="464245"/>
                    <a:pt x="12957" y="469900"/>
                    <a:pt x="257" y="476250"/>
                  </a:cubicBezTo>
                  <a:cubicBezTo>
                    <a:pt x="33740" y="526475"/>
                    <a:pt x="0" y="489747"/>
                    <a:pt x="57407" y="514350"/>
                  </a:cubicBezTo>
                  <a:cubicBezTo>
                    <a:pt x="114185" y="538684"/>
                    <a:pt x="57662" y="533400"/>
                    <a:pt x="114557" y="533400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05" name="Freeform 45"/>
            <p:cNvSpPr/>
            <p:nvPr/>
          </p:nvSpPr>
          <p:spPr>
            <a:xfrm>
              <a:off x="3257280" y="5546520"/>
              <a:ext cx="200520" cy="409680"/>
            </a:xfrm>
            <a:custGeom>
              <a:avLst/>
              <a:gdLst/>
              <a:ahLst/>
              <a:rect l="l" t="t" r="r" b="b"/>
              <a:pathLst>
                <a:path w="200540" h="409575">
                  <a:moveTo>
                    <a:pt x="95765" y="0"/>
                  </a:moveTo>
                  <a:cubicBezTo>
                    <a:pt x="84893" y="54358"/>
                    <a:pt x="80224" y="85560"/>
                    <a:pt x="67190" y="133350"/>
                  </a:cubicBezTo>
                  <a:cubicBezTo>
                    <a:pt x="61108" y="155650"/>
                    <a:pt x="53337" y="177503"/>
                    <a:pt x="48140" y="200025"/>
                  </a:cubicBezTo>
                  <a:cubicBezTo>
                    <a:pt x="22995" y="308987"/>
                    <a:pt x="51985" y="217066"/>
                    <a:pt x="29090" y="285750"/>
                  </a:cubicBezTo>
                  <a:cubicBezTo>
                    <a:pt x="25915" y="317500"/>
                    <a:pt x="24417" y="349463"/>
                    <a:pt x="19565" y="381000"/>
                  </a:cubicBezTo>
                  <a:cubicBezTo>
                    <a:pt x="18038" y="390923"/>
                    <a:pt x="0" y="409575"/>
                    <a:pt x="10040" y="409575"/>
                  </a:cubicBezTo>
                  <a:cubicBezTo>
                    <a:pt x="28553" y="409575"/>
                    <a:pt x="39933" y="386320"/>
                    <a:pt x="57665" y="381000"/>
                  </a:cubicBezTo>
                  <a:cubicBezTo>
                    <a:pt x="104185" y="367044"/>
                    <a:pt x="200540" y="352425"/>
                    <a:pt x="200540" y="352425"/>
                  </a:cubicBezTo>
                </a:path>
              </a:pathLst>
            </a:custGeom>
            <a:noFill/>
            <a:ln w="12600">
              <a:solidFill>
                <a:srgbClr val="ff69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06" name="Straight Arrow Connector 46"/>
            <p:cNvCxnSpPr/>
            <p:nvPr/>
          </p:nvCxnSpPr>
          <p:spPr>
            <a:xfrm flipH="1">
              <a:off x="3733200" y="4794480"/>
              <a:ext cx="2160" cy="68544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407" name="Straight Arrow Connector 47"/>
            <p:cNvCxnSpPr/>
            <p:nvPr/>
          </p:nvCxnSpPr>
          <p:spPr>
            <a:xfrm flipH="1">
              <a:off x="3733920" y="5632200"/>
              <a:ext cx="1440" cy="18360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408" name="Straight Arrow Connector 48"/>
            <p:cNvCxnSpPr/>
            <p:nvPr/>
          </p:nvCxnSpPr>
          <p:spPr>
            <a:xfrm flipH="1">
              <a:off x="3733920" y="5479920"/>
              <a:ext cx="2160" cy="18360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cxnSp>
          <p:nvCxnSpPr>
            <p:cNvPr id="409" name="Straight Arrow Connector 49"/>
            <p:cNvCxnSpPr/>
            <p:nvPr/>
          </p:nvCxnSpPr>
          <p:spPr>
            <a:xfrm flipH="1">
              <a:off x="3733920" y="5784840"/>
              <a:ext cx="1440" cy="26064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sp>
          <p:nvSpPr>
            <p:cNvPr id="410" name="TextBox 50"/>
            <p:cNvSpPr/>
            <p:nvPr/>
          </p:nvSpPr>
          <p:spPr>
            <a:xfrm>
              <a:off x="3817080" y="50324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Drift Gap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1" name="TextBox 51"/>
            <p:cNvSpPr/>
            <p:nvPr/>
          </p:nvSpPr>
          <p:spPr>
            <a:xfrm>
              <a:off x="3803040" y="5403600"/>
              <a:ext cx="90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Transfer 1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2" name="TextBox 52"/>
            <p:cNvSpPr/>
            <p:nvPr/>
          </p:nvSpPr>
          <p:spPr>
            <a:xfrm>
              <a:off x="3810240" y="5794200"/>
              <a:ext cx="871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Induction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3" name="TextBox 53"/>
            <p:cNvSpPr/>
            <p:nvPr/>
          </p:nvSpPr>
          <p:spPr>
            <a:xfrm>
              <a:off x="3803040" y="5603760"/>
              <a:ext cx="90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Transfer 2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4" name="TextBox 54"/>
            <p:cNvSpPr/>
            <p:nvPr/>
          </p:nvSpPr>
          <p:spPr>
            <a:xfrm>
              <a:off x="1046880" y="532728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GEM 1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5" name="TextBox 55"/>
            <p:cNvSpPr/>
            <p:nvPr/>
          </p:nvSpPr>
          <p:spPr>
            <a:xfrm>
              <a:off x="1046880" y="547992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GEM 2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6" name="TextBox 56"/>
            <p:cNvSpPr/>
            <p:nvPr/>
          </p:nvSpPr>
          <p:spPr>
            <a:xfrm>
              <a:off x="1046880" y="5632200"/>
              <a:ext cx="64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GEM 3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7" name="TextBox 57"/>
            <p:cNvSpPr/>
            <p:nvPr/>
          </p:nvSpPr>
          <p:spPr>
            <a:xfrm>
              <a:off x="1047600" y="4641480"/>
              <a:ext cx="57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Mesh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18" name="TextBox 58"/>
            <p:cNvSpPr/>
            <p:nvPr/>
          </p:nvSpPr>
          <p:spPr>
            <a:xfrm>
              <a:off x="1025640" y="5860800"/>
              <a:ext cx="85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X-Y Strips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19" name="Straight Arrow Connector 59"/>
            <p:cNvCxnSpPr/>
            <p:nvPr/>
          </p:nvCxnSpPr>
          <p:spPr>
            <a:xfrm>
              <a:off x="2938320" y="6109560"/>
              <a:ext cx="421560" cy="1080"/>
            </a:xfrm>
            <a:prstGeom prst="straightConnector1">
              <a:avLst/>
            </a:prstGeom>
            <a:ln w="12600">
              <a:solidFill>
                <a:srgbClr val="ff6903"/>
              </a:solidFill>
              <a:miter/>
              <a:headEnd len="med" type="triangle" w="sm"/>
              <a:tailEnd len="med" type="triangle" w="sm"/>
            </a:ln>
          </p:spPr>
        </p:cxnSp>
        <p:sp>
          <p:nvSpPr>
            <p:cNvPr id="420" name="TextBox 60"/>
            <p:cNvSpPr/>
            <p:nvPr/>
          </p:nvSpPr>
          <p:spPr>
            <a:xfrm>
              <a:off x="2614320" y="6076440"/>
              <a:ext cx="101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Schoolbook"/>
                </a:rPr>
                <a:t>Pitch: 400um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1" name="TextBox 61"/>
            <p:cNvSpPr/>
            <p:nvPr/>
          </p:nvSpPr>
          <p:spPr>
            <a:xfrm>
              <a:off x="4519800" y="5022720"/>
              <a:ext cx="1149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6mm / 15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2" name="TextBox 62"/>
            <p:cNvSpPr/>
            <p:nvPr/>
          </p:nvSpPr>
          <p:spPr>
            <a:xfrm>
              <a:off x="4545360" y="540360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1.5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3" name="TextBox 63"/>
            <p:cNvSpPr/>
            <p:nvPr/>
          </p:nvSpPr>
          <p:spPr>
            <a:xfrm>
              <a:off x="4550760" y="5784840"/>
              <a:ext cx="55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2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4" name="TextBox 64"/>
            <p:cNvSpPr/>
            <p:nvPr/>
          </p:nvSpPr>
          <p:spPr>
            <a:xfrm>
              <a:off x="4545360" y="5603760"/>
              <a:ext cx="68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1.5mm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25" name="Elbow Connector 65"/>
            <p:cNvCxnSpPr/>
            <p:nvPr/>
          </p:nvCxnSpPr>
          <p:spPr>
            <a:xfrm flipH="1" rot="16200000">
              <a:off x="2361960" y="6108480"/>
              <a:ext cx="534240" cy="305280"/>
            </a:xfrm>
            <a:prstGeom prst="bentConnector3">
              <a:avLst>
                <a:gd name="adj1" fmla="val 100000"/>
              </a:avLst>
            </a:prstGeom>
            <a:ln w="12600">
              <a:solidFill>
                <a:srgbClr val="ff6903"/>
              </a:solidFill>
              <a:miter/>
            </a:ln>
          </p:spPr>
        </p:cxnSp>
        <p:sp>
          <p:nvSpPr>
            <p:cNvPr id="426" name="Isosceles Triangle 66"/>
            <p:cNvSpPr/>
            <p:nvPr/>
          </p:nvSpPr>
          <p:spPr>
            <a:xfrm rot="5400000">
              <a:off x="2742840" y="641340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e8637"/>
            </a:solidFill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7" name="Straight Connector 67"/>
            <p:cNvSpPr/>
            <p:nvPr/>
          </p:nvSpPr>
          <p:spPr>
            <a:xfrm>
              <a:off x="2695680" y="6527880"/>
              <a:ext cx="457200" cy="0"/>
            </a:xfrm>
            <a:prstGeom prst="line">
              <a:avLst/>
            </a:prstGeom>
            <a:ln w="12600">
              <a:solidFill>
                <a:srgbClr val="ff69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8" name="TextBox 68"/>
            <p:cNvSpPr/>
            <p:nvPr/>
          </p:nvSpPr>
          <p:spPr>
            <a:xfrm>
              <a:off x="3119760" y="6394680"/>
              <a:ext cx="130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Schoolbook"/>
                </a:rPr>
                <a:t>Preamp/Shaper</a:t>
              </a:r>
              <a:endParaRPr b="0" lang="en-US" sz="12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29" name="Oval 69"/>
            <p:cNvSpPr/>
            <p:nvPr/>
          </p:nvSpPr>
          <p:spPr>
            <a:xfrm>
              <a:off x="3096720" y="4934880"/>
              <a:ext cx="56880" cy="56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0" name="Oval 70"/>
            <p:cNvSpPr/>
            <p:nvPr/>
          </p:nvSpPr>
          <p:spPr>
            <a:xfrm>
              <a:off x="2890800" y="5000760"/>
              <a:ext cx="157680" cy="155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1" name="Oval 71"/>
            <p:cNvSpPr/>
            <p:nvPr/>
          </p:nvSpPr>
          <p:spPr>
            <a:xfrm flipH="1">
              <a:off x="2783520" y="5196960"/>
              <a:ext cx="72000" cy="73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2" name="Oval 72"/>
            <p:cNvSpPr/>
            <p:nvPr/>
          </p:nvSpPr>
          <p:spPr>
            <a:xfrm>
              <a:off x="3220920" y="4794480"/>
              <a:ext cx="91080" cy="92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3" name="Oval 73"/>
            <p:cNvSpPr/>
            <p:nvPr/>
          </p:nvSpPr>
          <p:spPr>
            <a:xfrm>
              <a:off x="2628720" y="5311440"/>
              <a:ext cx="109800" cy="109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34" name="TextBox 74"/>
            <p:cNvSpPr/>
            <p:nvPr/>
          </p:nvSpPr>
          <p:spPr>
            <a:xfrm>
              <a:off x="1771200" y="4840200"/>
              <a:ext cx="1143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Schoolbook"/>
                </a:rPr>
                <a:t>Primary Charge 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entury Schoolbook"/>
                </a:rPr>
                <a:t>Fluctuation</a:t>
              </a:r>
              <a:endParaRPr b="0" lang="en-US" sz="10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</p:grpSp>
      <p:cxnSp>
        <p:nvCxnSpPr>
          <p:cNvPr id="435" name="Straight Arrow Connector 77"/>
          <p:cNvCxnSpPr>
            <a:stCxn id="362" idx="2"/>
          </p:cNvCxnSpPr>
          <p:nvPr/>
        </p:nvCxnSpPr>
        <p:spPr>
          <a:xfrm flipH="1">
            <a:off x="3276000" y="874800"/>
            <a:ext cx="1143720" cy="1411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36" name="Straight Arrow Connector 80"/>
          <p:cNvCxnSpPr/>
          <p:nvPr/>
        </p:nvCxnSpPr>
        <p:spPr>
          <a:xfrm>
            <a:off x="4412880" y="878040"/>
            <a:ext cx="1220040" cy="76248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37" name="Straight Arrow Connector 82"/>
          <p:cNvCxnSpPr/>
          <p:nvPr/>
        </p:nvCxnSpPr>
        <p:spPr>
          <a:xfrm flipH="1">
            <a:off x="4723920" y="1523880"/>
            <a:ext cx="22867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438" name="Straight Arrow Connector 84"/>
          <p:cNvCxnSpPr/>
          <p:nvPr/>
        </p:nvCxnSpPr>
        <p:spPr>
          <a:xfrm flipH="1">
            <a:off x="6019200" y="2437920"/>
            <a:ext cx="1143720" cy="3819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grpSp>
        <p:nvGrpSpPr>
          <p:cNvPr id="439" name="Group 95"/>
          <p:cNvGrpSpPr/>
          <p:nvPr/>
        </p:nvGrpSpPr>
        <p:grpSpPr>
          <a:xfrm>
            <a:off x="5943240" y="4723200"/>
            <a:ext cx="2154600" cy="1604880"/>
            <a:chOff x="5943240" y="4723200"/>
            <a:chExt cx="2154600" cy="1604880"/>
          </a:xfrm>
        </p:grpSpPr>
        <p:sp>
          <p:nvSpPr>
            <p:cNvPr id="440" name="Right Triangle 96"/>
            <p:cNvSpPr/>
            <p:nvPr/>
          </p:nvSpPr>
          <p:spPr>
            <a:xfrm rot="16200000">
              <a:off x="6435720" y="4731120"/>
              <a:ext cx="1164240" cy="1566720"/>
            </a:xfrm>
            <a:prstGeom prst="rtTriangle">
              <a:avLst/>
            </a:prstGeom>
            <a:solidFill>
              <a:srgbClr val="fe86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41" name="Straight Arrow Connector 97"/>
            <p:cNvCxnSpPr/>
            <p:nvPr/>
          </p:nvCxnSpPr>
          <p:spPr>
            <a:xfrm flipH="1">
              <a:off x="5943240" y="4723200"/>
              <a:ext cx="2154960" cy="1601640"/>
            </a:xfrm>
            <a:prstGeom prst="straightConnector1">
              <a:avLst/>
            </a:prstGeom>
            <a:ln w="15840">
              <a:solidFill>
                <a:srgbClr val="ceb500"/>
              </a:solidFill>
              <a:prstDash val="dash"/>
              <a:miter/>
              <a:tailEnd len="lg" type="stealth" w="lg"/>
            </a:ln>
          </p:spPr>
        </p:cxnSp>
        <p:sp>
          <p:nvSpPr>
            <p:cNvPr id="442" name="TextBox 98"/>
            <p:cNvSpPr/>
            <p:nvPr/>
          </p:nvSpPr>
          <p:spPr>
            <a:xfrm rot="19431000">
              <a:off x="6436080" y="51868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e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Century Schoolbook"/>
                </a:rPr>
                <a:t>-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Schoolbook"/>
                </a:rPr>
                <a:t> Track</a:t>
              </a:r>
              <a:endParaRPr b="0" lang="en-US" sz="14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3" name="TextBox 99"/>
            <p:cNvSpPr/>
            <p:nvPr/>
          </p:nvSpPr>
          <p:spPr>
            <a:xfrm>
              <a:off x="6176880" y="6096960"/>
              <a:ext cx="18450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Schoolbook"/>
                </a:rPr>
                <a:t>Projection of Charge onto Pads</a:t>
              </a:r>
              <a:endParaRPr b="0" lang="en-US" sz="9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4" name="TextBox 100"/>
            <p:cNvSpPr/>
            <p:nvPr/>
          </p:nvSpPr>
          <p:spPr>
            <a:xfrm rot="16200000">
              <a:off x="7408440" y="5396040"/>
              <a:ext cx="1140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entury Schoolbook"/>
                </a:rPr>
                <a:t>Drift Gap = 13mm</a:t>
              </a:r>
              <a:endParaRPr b="0" lang="en-US" sz="9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5" name="Arc 101"/>
            <p:cNvSpPr/>
            <p:nvPr/>
          </p:nvSpPr>
          <p:spPr>
            <a:xfrm rot="9766200">
              <a:off x="7514640" y="4873680"/>
              <a:ext cx="423720" cy="420840"/>
            </a:xfrm>
            <a:custGeom>
              <a:avLst/>
              <a:gdLst/>
              <a:ahLst/>
              <a:rect l="l" t="t" r="r" b="b"/>
              <a:pathLst>
                <a:path stroke="0" w="659644" h="661252">
                  <a:moveTo>
                    <a:pt x="329822" y="0"/>
                  </a:moveTo>
                  <a:cubicBezTo>
                    <a:pt x="511978" y="0"/>
                    <a:pt x="659644" y="148026"/>
                    <a:pt x="659644" y="330626"/>
                  </a:cubicBezTo>
                  <a:lnTo>
                    <a:pt x="329822" y="330626"/>
                  </a:lnTo>
                  <a:lnTo>
                    <a:pt x="329822" y="0"/>
                  </a:lnTo>
                  <a:close/>
                </a:path>
                <a:path fill="none" w="659644" h="661252">
                  <a:moveTo>
                    <a:pt x="329822" y="0"/>
                  </a:moveTo>
                  <a:cubicBezTo>
                    <a:pt x="511978" y="0"/>
                    <a:pt x="659644" y="148026"/>
                    <a:pt x="659644" y="330626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sp>
          <p:nvSpPr>
            <p:cNvPr id="446" name="TextBox 102"/>
            <p:cNvSpPr/>
            <p:nvPr/>
          </p:nvSpPr>
          <p:spPr>
            <a:xfrm>
              <a:off x="7010280" y="525780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</a:t>
              </a:r>
              <a:endParaRPr b="0" lang="en-US" sz="1600" spc="-1" strike="noStrike">
                <a:solidFill>
                  <a:srgbClr val="000000"/>
                </a:solidFill>
                <a:latin typeface="Century Schoolbook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(Track Angle)</a:t>
              </a:r>
              <a:endParaRPr b="0" lang="en-US" sz="800" spc="-1" strike="noStrike">
                <a:solidFill>
                  <a:srgbClr val="000000"/>
                </a:solidFill>
                <a:latin typeface="Century Schoolbook"/>
              </a:endParaRPr>
            </a:p>
          </p:txBody>
        </p:sp>
        <p:cxnSp>
          <p:nvCxnSpPr>
            <p:cNvPr id="447" name="Elbow Connector 103"/>
            <p:cNvCxnSpPr/>
            <p:nvPr/>
          </p:nvCxnSpPr>
          <p:spPr>
            <a:xfrm rot="5400000">
              <a:off x="7654320" y="5950800"/>
              <a:ext cx="146160" cy="147600"/>
            </a:xfrm>
            <a:prstGeom prst="bentConnector3">
              <a:avLst>
                <a:gd name="adj1" fmla="val -4691"/>
              </a:avLst>
            </a:prstGeom>
            <a:ln w="2232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RATE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9" name="TextBox 2"/>
          <p:cNvSpPr/>
          <p:nvPr/>
        </p:nvSpPr>
        <p:spPr>
          <a:xfrm>
            <a:off x="304200" y="1447920"/>
            <a:ext cx="87325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Use strip charge to identify events hitting pad plane, and eliminate all other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Cut more events based on charge amplitude and  charge distribution on strip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is ensures a good Landau distribution with the expected mean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t rising edge of each pulse from each pad used in the analysis of a given event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x-coord. intercept (xint), gives the arrival time of charge for a given strip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which is related to the drift time of the charge within the drift gap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construct z-coord. using the drift time and drift velocity of the gas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Ar/CO2 (70/30): ~2.5cm/us)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Draw vector in x-z plane (and later in the y-z plane), by fitting the reconstructed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oints, where the x-coord. is simply taken as middle of the corresponding pad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pply further cuts, based on the goodness of fit and the position of the track end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oint in relation to the charge centroid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he x-coord. of the vector intercepting the plane in which the source is placed allow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e to reconstruct an image of the source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ngle hit events are treated as vertical tracks, but are required to have more charge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on the single pad than for multiple hit events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ome double hit events are also  treated as vertical tracks, if the difference in the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respective xint values is less than a set limit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07160" cy="60804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5"/>
          <p:cNvSpPr/>
          <p:nvPr/>
        </p:nvSpPr>
        <p:spPr>
          <a:xfrm>
            <a:off x="5069880" y="5105520"/>
            <a:ext cx="31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Timing of pulses look good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X-STRIP GENERAL PLO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3" name="TextBox 7"/>
          <p:cNvSpPr/>
          <p:nvPr/>
        </p:nvSpPr>
        <p:spPr>
          <a:xfrm>
            <a:off x="1981080" y="495288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entury Schoolbook"/>
              </a:rPr>
              <a:t>Trigger efficiency for good events is low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TextBox 8"/>
          <p:cNvSpPr/>
          <p:nvPr/>
        </p:nvSpPr>
        <p:spPr>
          <a:xfrm>
            <a:off x="1371600" y="320040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100K event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07160" cy="60804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XY-STRIP GENERAL PLOT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TextBox 3"/>
          <p:cNvSpPr/>
          <p:nvPr/>
        </p:nvSpPr>
        <p:spPr>
          <a:xfrm>
            <a:off x="5715000" y="380988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Landau looks Good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TextBox 4"/>
          <p:cNvSpPr/>
          <p:nvPr/>
        </p:nvSpPr>
        <p:spPr>
          <a:xfrm>
            <a:off x="5638680" y="556272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X/Y Charge Fraction is &lt; 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TextBox 5"/>
          <p:cNvSpPr/>
          <p:nvPr/>
        </p:nvSpPr>
        <p:spPr>
          <a:xfrm>
            <a:off x="1219320" y="297180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entury Schoolbook"/>
              </a:rPr>
              <a:t>½ of all events (50K) hit detecto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5623200" cy="3828960"/>
          </a:xfrm>
          <a:prstGeom prst="rect">
            <a:avLst/>
          </a:prstGeom>
          <a:ln w="0">
            <a:noFill/>
          </a:ln>
        </p:spPr>
      </p:pic>
      <p:sp>
        <p:nvSpPr>
          <p:cNvPr id="461" name="TextBox 2"/>
          <p:cNvSpPr/>
          <p:nvPr/>
        </p:nvSpPr>
        <p:spPr>
          <a:xfrm>
            <a:off x="534960" y="5181480"/>
            <a:ext cx="782928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dE/dx (Ar/Co2 70/30) =  2.6keV/cm, w = 28eV/e-i pai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entury Schoolbook"/>
              </a:rPr>
              <a:t>tot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= 2.6*0.6cm GEM drift gap = 1.56keV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imary charge = 1560eV/28eV = 55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entury Schoolbook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Landau gives expected primary charge from track trvaersing drfit gap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ISTRIBUTION OF TOTAL CHARGE PER EVEN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14520" cy="22482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3314520" cy="224784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IMING INFO FROM CHARGE PULS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TextBox 4"/>
          <p:cNvSpPr/>
          <p:nvPr/>
        </p:nvSpPr>
        <p:spPr>
          <a:xfrm>
            <a:off x="304920" y="350532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ingle Event:  successive charge pulses from fired pads (which survive cuts) are seen to arrive successively  later in tim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7" name="TextBox 5"/>
          <p:cNvSpPr/>
          <p:nvPr/>
        </p:nvSpPr>
        <p:spPr>
          <a:xfrm>
            <a:off x="4648320" y="3429000"/>
            <a:ext cx="320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Rising edge of charge pulse from single pad (and single event) is fit to a straight line.  The x-int. is taken as the arrival time, which the drift time is derived from.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3"/>
          <a:stretch/>
        </p:blipFill>
        <p:spPr>
          <a:xfrm>
            <a:off x="304920" y="4419720"/>
            <a:ext cx="3314520" cy="225720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4" descr=""/>
          <p:cNvPicPr/>
          <p:nvPr/>
        </p:nvPicPr>
        <p:blipFill>
          <a:blip r:embed="rId4"/>
          <a:stretch/>
        </p:blipFill>
        <p:spPr>
          <a:xfrm>
            <a:off x="4648320" y="4419720"/>
            <a:ext cx="3314520" cy="2257200"/>
          </a:xfrm>
          <a:prstGeom prst="rect">
            <a:avLst/>
          </a:prstGeom>
          <a:ln w="0">
            <a:noFill/>
          </a:ln>
        </p:spPr>
      </p:pic>
      <p:sp>
        <p:nvSpPr>
          <p:cNvPr id="470" name="TextBox 7"/>
          <p:cNvSpPr/>
          <p:nvPr/>
        </p:nvSpPr>
        <p:spPr>
          <a:xfrm>
            <a:off x="2819520" y="533412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entury Schoolbook"/>
              </a:rPr>
              <a:t>Distribution of x-int values make sense and are not too broad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978360" cy="2708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RAWING VECTOR IN X-Z PLA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04920" y="4038480"/>
            <a:ext cx="396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onstructed (x,z) points plotte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Not sure what the bands seen across the x-axis at z= 1.4, 1.6, 2.2, and at 2.8 are caused by at the moment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4" name="TextBox 5"/>
          <p:cNvSpPr/>
          <p:nvPr/>
        </p:nvSpPr>
        <p:spPr>
          <a:xfrm>
            <a:off x="4419720" y="3962520"/>
            <a:ext cx="4343400" cy="21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constructed (x,z) points Fit to line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ource is at about (x, y) = (52mm, 10mm), where many lines appear to be emanating from.  Beta source (Sr-90) is fairly well collimated with a 1mm wide collimator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Stray tracks are likely cosmics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Vertical Tracks dominate in number, as they should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2"/>
          <a:stretch/>
        </p:blipFill>
        <p:spPr>
          <a:xfrm>
            <a:off x="4724280" y="1295280"/>
            <a:ext cx="39783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CONSTRUCTED SOURCE X-POSI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Left Brace 9"/>
          <p:cNvSpPr/>
          <p:nvPr/>
        </p:nvSpPr>
        <p:spPr>
          <a:xfrm rot="5400000">
            <a:off x="4285800" y="2511360"/>
            <a:ext cx="343080" cy="68580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Left Brace 11"/>
          <p:cNvSpPr/>
          <p:nvPr/>
        </p:nvSpPr>
        <p:spPr>
          <a:xfrm rot="16200000">
            <a:off x="4332240" y="4092480"/>
            <a:ext cx="342720" cy="68580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685800"/>
              <a:gd name="textAreaBottom" fmla="*/ 67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5400" y="10800"/>
                  <a:pt x="0" y="10800"/>
                </a:cubicBezTo>
                <a:cubicBezTo>
                  <a:pt x="54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479" name="Straight Arrow Connector 14"/>
          <p:cNvCxnSpPr/>
          <p:nvPr/>
        </p:nvCxnSpPr>
        <p:spPr>
          <a:xfrm>
            <a:off x="3505320" y="1828440"/>
            <a:ext cx="915120" cy="76284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80" name="Straight Arrow Connector 16"/>
          <p:cNvCxnSpPr/>
          <p:nvPr/>
        </p:nvCxnSpPr>
        <p:spPr>
          <a:xfrm flipV="1">
            <a:off x="3505320" y="4647960"/>
            <a:ext cx="915120" cy="900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481" name="Picture 6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14880" cy="225756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314880" cy="22575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8" descr=""/>
          <p:cNvPicPr/>
          <p:nvPr/>
        </p:nvPicPr>
        <p:blipFill>
          <a:blip r:embed="rId3"/>
          <a:stretch/>
        </p:blipFill>
        <p:spPr>
          <a:xfrm>
            <a:off x="5486400" y="4343400"/>
            <a:ext cx="3314880" cy="22575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4"/>
          <a:stretch/>
        </p:blipFill>
        <p:spPr>
          <a:xfrm>
            <a:off x="3429000" y="2895480"/>
            <a:ext cx="2195640" cy="14954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"/>
          <p:cNvPicPr/>
          <p:nvPr/>
        </p:nvPicPr>
        <p:blipFill>
          <a:blip r:embed="rId5"/>
          <a:stretch/>
        </p:blipFill>
        <p:spPr>
          <a:xfrm>
            <a:off x="5257800" y="762120"/>
            <a:ext cx="333684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9:10:24Z</dcterms:created>
  <dc:creator>B. Azmoun</dc:creator>
  <dc:description/>
  <dc:language>en-US</dc:language>
  <cp:lastModifiedBy>Thomas K Hemmick</cp:lastModifiedBy>
  <dcterms:modified xsi:type="dcterms:W3CDTF">2012-07-02T20:27:11Z</dcterms:modified>
  <cp:revision>20</cp:revision>
  <dc:subject/>
  <dc:title>Slide 1</dc:title>
</cp:coreProperties>
</file>